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CFF-F25E-43EC-B193-905FF93D7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E85-310C-47BB-8A58-A0DAF94338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27E8-D02C-44E9-AB55-9608AFA1EB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4AE-DFB0-47BB-8329-49DB7658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D92-1AF6-4FE1-9257-C8E337A5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A9B-F958-4BA7-BDC6-66BCF17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233-7F63-4829-A259-9ED5DD7D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E7F9-F015-4638-B073-95121706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8FA7-F16E-4898-919E-D9FA121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4BF9-B70B-4429-A0BD-83FAC8F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D59C-AFDF-47DF-9F0F-E2E99091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55DF-B72E-444E-A415-0BD51E65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E8A2-08CA-4246-A725-97E52275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7C81-23AA-4E25-B1C1-6F6F2166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BE2-29BD-4A5D-BD1A-0C54C54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805D-137D-48B8-A7FC-D23E6C3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7D0-443C-4B04-9181-53A0DEC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17F2-D597-4A2B-AC96-B70BE3D2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CA5-F181-4F86-92A8-DC1AA01E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0178-B2FA-4A8A-882E-ED1A28DF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C38-BA59-4A9C-B6E4-C2B3042B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B17-82A0-4902-BF03-9A1E22B0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201-3EFF-4399-B72B-8127626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C77-8715-45FA-BE44-B0195192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F30-7B05-4156-BBF8-F5F6A84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66D-AF12-4001-8BA1-801B2CF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C0B-281B-4A2A-AFF2-89480E56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7F41-F40A-4A6D-B57F-DAE9078FC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B4E2-4706-4E35-A580-9E4E00E639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ae8e8"/>
                </a:solidFill>
                <a:latin typeface="Times New Roman"/>
              </a:rPr>
              <a:t>СОЦИАЛЬНО-РЕАБИЛИТАЦИОННОЕ ОТ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14200" y="1571760"/>
            <a:ext cx="8929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Для инвалидов по зрению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6. Прибор для письма шрифтом Брай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7. Сопутствующие расходные материалы для письма по системе Брай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8 . Часы наручные с речевым выход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9. Часы наручные Брай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0. Будильник с речевым выход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1. Прибор измерения уровня сахара в крови с речевым выход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2. Тест полоски к прибору для измерения уровня сахара в крови с речевым выход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6. Смартфон с синтезатором речи для инвалидов по зрению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7. Калькулятор с речевым выходом для инвалидов по зрению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8. Диктофон цифровой для инвалидов по зрению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19. Цифровой плеер для инвалидов по зрен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* п.п. 16, 17, 18 в редакции постановления Правительства Красноярского края от 13.09.2011 №517-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407880"/>
            <a:ext cx="89424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428760" y="264312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Для инвалидов по слух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13. Телефон с усилением звукового сигн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14. Автоматический цифровой тонометр с индикацией  аритмии для инвалидов по слух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15. Часы-будильник наручные электронные с вибрационным сигна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506520"/>
            <a:ext cx="91569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extBox 1" descr=""/>
          <p:cNvPicPr/>
          <p:nvPr/>
        </p:nvPicPr>
        <p:blipFill>
          <a:blip r:embed="rId1"/>
          <a:stretch/>
        </p:blipFill>
        <p:spPr>
          <a:xfrm>
            <a:off x="-6480" y="506520"/>
            <a:ext cx="9156960" cy="12729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142920" y="2286000"/>
            <a:ext cx="88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Для инвалидов с нарушением О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1. Средства для обучения способности передвигаться, вертикализа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2. Сиденья для ванны, стулья для душа, доска для переме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3. Ступенька для ван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4. Сиденья-насадки для унита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5. Переносные панд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Bernard MT Condensed"/>
              </a:rPr>
              <a:t>Технические средства реабилитации выданные в 2011 году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Bernard MT Condensed"/>
              </a:rPr>
              <a:t>«КЦСОН Абанский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ля инвалидов по зрен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539640" y="1628640"/>
            <a:ext cx="8136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ы наручные с речевым выходом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ильник с речевым выходом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артфон с синтезатором речи 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бор измерения уровня сахара в крови с речевым выходом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Bernard MT Condensed"/>
              </a:rPr>
              <a:t>Для инвалидов по слуху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rnard MT Condensed"/>
              </a:rPr>
              <a:t>Автоматический цифровой тонометр с индикацией аритмии  – 8ш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инвалидов с нарушением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rnard MT Condensed"/>
              </a:rPr>
              <a:t>Средства для обучения способности передвигаться, вертикализаторы –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rnard MT Condensed"/>
              </a:rPr>
              <a:t>Сиденья для ванны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rnard MT Condensed"/>
              </a:rPr>
              <a:t>Доска для перемещения -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rnard MT Condensed"/>
              </a:rPr>
              <a:t>Сиденья - насадки для унитаза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rnard MT Condensed"/>
              </a:rPr>
              <a:t>Переносный пандус -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Broadway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ccecff"/>
                </a:solidFill>
                <a:latin typeface="Broadway"/>
              </a:rPr>
              <a:t>за </a:t>
            </a:r>
            <a:br>
              <a:rPr sz="8000"/>
            </a:br>
            <a:r>
              <a:rPr b="0" lang="ru-RU" sz="8000" spc="-1" strike="noStrike">
                <a:solidFill>
                  <a:srgbClr val="ccecff"/>
                </a:solidFill>
                <a:latin typeface="Broadway"/>
              </a:rPr>
              <a:t>внимание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341400">
            <a:off x="517680" y="396360"/>
            <a:ext cx="808344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98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98000"/>
              </a:gradFill>
              <a:latin typeface="Impact"/>
              <a:ea typeface="Impact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76212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33"/>
                </a:solidFill>
                <a:latin typeface="Arial"/>
              </a:rPr>
              <a:t>ЦЕЛИ И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циально-реабилитационном отделении обслуживаются инвалиды, направленные  МСЭ для реализации ИПР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задачей реабилитационного отделения является поддержание у граждан возможностей самореализации жизненно важных потребностей путём укрепления их здоровья, повышения физической активности, нормализации психического стату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33"/>
                </a:solidFill>
                <a:latin typeface="Arial"/>
              </a:rPr>
              <a:t>НАПРАВЛЕНИЕ ДЕЯТЕЛЬНОС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азание экстренной   психологической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дение оздоровительных реабилитационных мероприятий, содействие в создании условий для общения, проведения досуговых мероприятий обслуживаемых л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уществление мероприятий согласно разработанным индивидуальным программам реабилит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3"/>
          <p:cNvSpPr/>
          <p:nvPr/>
        </p:nvSpPr>
        <p:spPr>
          <a:xfrm>
            <a:off x="1828800" y="228600"/>
            <a:ext cx="5715000" cy="3430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УСЛУГИ СОЦИАЛЬНО-РЕАБИЛИТАЦИОННОГО ОТД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67"/>
          <p:cNvSpPr/>
          <p:nvPr/>
        </p:nvSpPr>
        <p:spPr>
          <a:xfrm>
            <a:off x="5562720" y="1219320"/>
            <a:ext cx="3124080" cy="6858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АЯ ПОМОЩ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7"/>
          <p:cNvSpPr/>
          <p:nvPr/>
        </p:nvSpPr>
        <p:spPr>
          <a:xfrm>
            <a:off x="5715000" y="3657600"/>
            <a:ext cx="2666880" cy="838080"/>
          </a:xfrm>
          <a:prstGeom prst="rect">
            <a:avLst/>
          </a:prstGeom>
          <a:solidFill>
            <a:srgbClr val="ff66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ИСТ ПО СОЦИАЛЬНОЙ РАБОТЕ (СОЦИАЛЬНО-БЫТОВАЯ АДАПТ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1"/>
          <p:cNvSpPr/>
          <p:nvPr/>
        </p:nvSpPr>
        <p:spPr>
          <a:xfrm>
            <a:off x="2514600" y="2438280"/>
            <a:ext cx="12193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Ф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0"/>
          <p:cNvSpPr/>
          <p:nvPr/>
        </p:nvSpPr>
        <p:spPr>
          <a:xfrm>
            <a:off x="1752480" y="5181480"/>
            <a:ext cx="2057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ТОТЕРАП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9"/>
          <p:cNvSpPr/>
          <p:nvPr/>
        </p:nvSpPr>
        <p:spPr>
          <a:xfrm>
            <a:off x="5791320" y="2438280"/>
            <a:ext cx="12952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5791320" y="5257800"/>
            <a:ext cx="19810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ТЕРАП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66"/>
          <p:cNvSpPr/>
          <p:nvPr/>
        </p:nvSpPr>
        <p:spPr>
          <a:xfrm>
            <a:off x="762120" y="1143000"/>
            <a:ext cx="28191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ЕСПЕЧЕНИЕ ТСР (СОГЛАСНО КРАЕВОГО ПЕРЕЧН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4"/>
          <p:cNvSpPr/>
          <p:nvPr/>
        </p:nvSpPr>
        <p:spPr>
          <a:xfrm>
            <a:off x="1600200" y="3657600"/>
            <a:ext cx="220968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ОКУЛЬТУРНАЯ РЕАБИЛИТ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1829880" y="3772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5"/>
          <p:cNvSpPr/>
          <p:nvPr/>
        </p:nvSpPr>
        <p:spPr>
          <a:xfrm>
            <a:off x="1658880" y="9874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6"/>
          <p:cNvSpPr/>
          <p:nvPr/>
        </p:nvSpPr>
        <p:spPr>
          <a:xfrm>
            <a:off x="1658520" y="181080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98"/>
          <p:cNvSpPr/>
          <p:nvPr/>
        </p:nvSpPr>
        <p:spPr>
          <a:xfrm>
            <a:off x="2971800" y="2590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 flipH="1">
            <a:off x="3580920" y="60948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4952880" y="609480"/>
            <a:ext cx="10670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4800600" y="609480"/>
            <a:ext cx="99072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 flipH="1">
            <a:off x="3809520" y="60948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 flipH="1">
            <a:off x="3885840" y="609480"/>
            <a:ext cx="762120" cy="3505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4648320" y="609480"/>
            <a:ext cx="99036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 flipH="1">
            <a:off x="304560" y="38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304920" y="380880"/>
            <a:ext cx="7596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380880" y="54100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7620120" y="380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8915400" y="38088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6"/>
          <p:cNvSpPr/>
          <p:nvPr/>
        </p:nvSpPr>
        <p:spPr>
          <a:xfrm flipH="1">
            <a:off x="7772040" y="5410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8"/>
          <p:cNvSpPr/>
          <p:nvPr/>
        </p:nvSpPr>
        <p:spPr>
          <a:xfrm>
            <a:off x="468360" y="141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735120" y="100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3" descr="SDC11336"/>
          <p:cNvPicPr/>
          <p:nvPr/>
        </p:nvPicPr>
        <p:blipFill>
          <a:blip r:embed="rId1"/>
          <a:stretch/>
        </p:blipFill>
        <p:spPr>
          <a:xfrm>
            <a:off x="0" y="765000"/>
            <a:ext cx="3492360" cy="244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SDC12894"/>
          <p:cNvPicPr/>
          <p:nvPr/>
        </p:nvPicPr>
        <p:blipFill>
          <a:blip r:embed="rId2"/>
          <a:stretch/>
        </p:blipFill>
        <p:spPr>
          <a:xfrm>
            <a:off x="4572000" y="260280"/>
            <a:ext cx="4356000" cy="280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5" descr=""/>
          <p:cNvPicPr/>
          <p:nvPr/>
        </p:nvPicPr>
        <p:blipFill>
          <a:blip r:embed="rId3"/>
          <a:stretch/>
        </p:blipFill>
        <p:spPr>
          <a:xfrm>
            <a:off x="4568760" y="3213000"/>
            <a:ext cx="4575240" cy="343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6" descr="SDC12918"/>
          <p:cNvPicPr/>
          <p:nvPr/>
        </p:nvPicPr>
        <p:blipFill>
          <a:blip r:embed="rId4"/>
          <a:stretch/>
        </p:blipFill>
        <p:spPr>
          <a:xfrm>
            <a:off x="0" y="33577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SDC12927"/>
          <p:cNvPicPr/>
          <p:nvPr/>
        </p:nvPicPr>
        <p:blipFill>
          <a:blip r:embed="rId1"/>
          <a:stretch/>
        </p:blipFill>
        <p:spPr>
          <a:xfrm>
            <a:off x="0" y="0"/>
            <a:ext cx="4287960" cy="321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SDC12929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SDC12923"/>
          <p:cNvPicPr/>
          <p:nvPr/>
        </p:nvPicPr>
        <p:blipFill>
          <a:blip r:embed="rId3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SDC14936"/>
          <p:cNvPicPr/>
          <p:nvPr/>
        </p:nvPicPr>
        <p:blipFill>
          <a:blip r:embed="rId4"/>
          <a:stretch/>
        </p:blipFill>
        <p:spPr>
          <a:xfrm>
            <a:off x="4788000" y="3573360"/>
            <a:ext cx="4356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SDC14956"/>
          <p:cNvPicPr/>
          <p:nvPr/>
        </p:nvPicPr>
        <p:blipFill>
          <a:blip r:embed="rId1"/>
          <a:stretch/>
        </p:blipFill>
        <p:spPr>
          <a:xfrm>
            <a:off x="0" y="0"/>
            <a:ext cx="4575240" cy="3432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SDC14966"/>
          <p:cNvPicPr/>
          <p:nvPr/>
        </p:nvPicPr>
        <p:blipFill>
          <a:blip r:embed="rId2"/>
          <a:stretch/>
        </p:blipFill>
        <p:spPr>
          <a:xfrm>
            <a:off x="4962600" y="0"/>
            <a:ext cx="41814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SDC14970"/>
          <p:cNvPicPr/>
          <p:nvPr/>
        </p:nvPicPr>
        <p:blipFill>
          <a:blip r:embed="rId3"/>
          <a:stretch/>
        </p:blipFill>
        <p:spPr>
          <a:xfrm>
            <a:off x="0" y="3618000"/>
            <a:ext cx="4500720" cy="3240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SDC14973"/>
          <p:cNvPicPr/>
          <p:nvPr/>
        </p:nvPicPr>
        <p:blipFill>
          <a:blip r:embed="rId4"/>
          <a:stretch/>
        </p:blipFill>
        <p:spPr>
          <a:xfrm>
            <a:off x="4894200" y="367020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SDC14930"/>
          <p:cNvPicPr/>
          <p:nvPr/>
        </p:nvPicPr>
        <p:blipFill>
          <a:blip r:embed="rId1"/>
          <a:stretch/>
        </p:blipFill>
        <p:spPr>
          <a:xfrm>
            <a:off x="0" y="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SDC14926"/>
          <p:cNvPicPr/>
          <p:nvPr/>
        </p:nvPicPr>
        <p:blipFill>
          <a:blip r:embed="rId2"/>
          <a:stretch/>
        </p:blipFill>
        <p:spPr>
          <a:xfrm>
            <a:off x="4354560" y="0"/>
            <a:ext cx="4789440" cy="2997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SDC10068"/>
          <p:cNvPicPr/>
          <p:nvPr/>
        </p:nvPicPr>
        <p:blipFill>
          <a:blip r:embed="rId3"/>
          <a:stretch/>
        </p:blipFill>
        <p:spPr>
          <a:xfrm>
            <a:off x="0" y="3357720"/>
            <a:ext cx="4178160" cy="3311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SDC10205"/>
          <p:cNvPicPr/>
          <p:nvPr/>
        </p:nvPicPr>
        <p:blipFill>
          <a:blip r:embed="rId4"/>
          <a:stretch/>
        </p:blipFill>
        <p:spPr>
          <a:xfrm>
            <a:off x="4572000" y="3284640"/>
            <a:ext cx="4362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SDC10194"/>
          <p:cNvPicPr/>
          <p:nvPr/>
        </p:nvPicPr>
        <p:blipFill>
          <a:blip r:embed="rId1"/>
          <a:stretch/>
        </p:blipFill>
        <p:spPr>
          <a:xfrm>
            <a:off x="0" y="0"/>
            <a:ext cx="3965400" cy="2973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SDC10219"/>
          <p:cNvPicPr/>
          <p:nvPr/>
        </p:nvPicPr>
        <p:blipFill>
          <a:blip r:embed="rId2"/>
          <a:stretch/>
        </p:blipFill>
        <p:spPr>
          <a:xfrm>
            <a:off x="4819680" y="0"/>
            <a:ext cx="4324320" cy="299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SDC10251"/>
          <p:cNvPicPr/>
          <p:nvPr/>
        </p:nvPicPr>
        <p:blipFill>
          <a:blip r:embed="rId3"/>
          <a:stretch/>
        </p:blipFill>
        <p:spPr>
          <a:xfrm>
            <a:off x="0" y="3370320"/>
            <a:ext cx="4140360" cy="348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SDC10258"/>
          <p:cNvPicPr/>
          <p:nvPr/>
        </p:nvPicPr>
        <p:blipFill>
          <a:blip r:embed="rId4"/>
          <a:stretch/>
        </p:blipFill>
        <p:spPr>
          <a:xfrm>
            <a:off x="4861080" y="3357720"/>
            <a:ext cx="4282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2009 года на территории Красноярского края реализуются постановления Правительства Красноярского края об обеспечении инвалидов техническими средствами реабилитации, не предусмотренными федеральным перечнем, за счет средств краевого бюдже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0:21:17Z</dcterms:created>
  <dc:creator>Ходос Наталья Васильевна</dc:creator>
  <dc:description/>
  <dc:language>en-US</dc:language>
  <cp:lastModifiedBy>Admin</cp:lastModifiedBy>
  <dcterms:modified xsi:type="dcterms:W3CDTF">2012-03-22T01:36:09Z</dcterms:modified>
  <cp:revision>6</cp:revision>
  <dc:subject/>
  <dc:title>Технические средства реабилитации выданные в 2011году для инвалидов по зрению</dc:title>
</cp:coreProperties>
</file>