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F70-238C-4ED0-9F03-584E787B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C0F-DECF-4AA0-9B5B-18FB7D5A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77F-6358-4B99-9345-499E17C8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3D3-599E-4783-ACCC-A5DC741B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33C-32C0-4EBA-BB7C-ECD1FC00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C463-D9CF-443C-BC11-EFF7F15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B52-19B8-4C18-8A17-C2C1221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ED7B-235D-45B4-A80B-CF773C03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DC72-312A-4620-BC68-B2463E4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4CD7-F5AB-42EF-BE01-B379BD5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570B-55F3-4465-8923-FA460D4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B0E-241C-44C7-AC21-2761142A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F71-8669-4BF0-AC0D-4A97BBC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921D-8231-4974-9CB7-774BD7B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C7EF-B10F-42E3-87E7-91D27238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FB20-A89D-4A54-810A-B80BD141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56F-628A-42FC-B44E-F4630BF6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459-F3B6-423B-A978-EDBD3F5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BBC-8C7B-4B63-B9AC-D8E708C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23C-D3E2-47D1-84A2-1DE9AAC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607-FAA9-4C5F-9A7E-D725CE3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410-D74C-470B-A8E7-819FC3A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54B-56CC-42FD-9EA7-6FC8497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B12-81DD-4987-BCF4-D7AF000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EC4-7138-4BA5-A748-78520E1DC7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C9F-D93B-44AB-9B47-66689AD15C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БУ СО «КЦСОН  «Абанский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Отделения социального обслуживания на дому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чего Вам необходимо социальное обслуживание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ужен уход                                                     28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 общение                                    27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состояния здоровья        17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создания домашнего уюта                     17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 внимание                                   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ужна забота                                                  15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беспечения полноценной жизни          15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сохранения привычного уклада жизни  13,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выживания                                                 8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ятость родственников и детей, отсутствие детей 8,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веренности в завтрашнем дне              6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SDC10624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SDC13417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DC14017"/>
          <p:cNvPicPr/>
          <p:nvPr/>
        </p:nvPicPr>
        <p:blipFill>
          <a:blip r:embed="rId3"/>
          <a:stretch/>
        </p:blipFill>
        <p:spPr>
          <a:xfrm>
            <a:off x="0" y="3581280"/>
            <a:ext cx="4038480" cy="305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SDC14010"/>
          <p:cNvPicPr/>
          <p:nvPr/>
        </p:nvPicPr>
        <p:blipFill>
          <a:blip r:embed="rId4"/>
          <a:stretch/>
        </p:blipFill>
        <p:spPr>
          <a:xfrm>
            <a:off x="472428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Какие услуги, оказываемые учреждением социального обслуживания граждан пожилого возраста и инвалидов, наиболее значимы для Вас?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борка жилого помещения                                                                                    77,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обретение лекарственных средств                                                                  65,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купка и доставка на дом продуктов питания                                                   65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йствие в оплате жилья и коммунальных услуг                                            61,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ставка воды                                                                                                          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, обсуждение разных вопросов                                                               55,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ставка топлива и растопка печи                                                                        34,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купка и доставка на дом промышленных товаров первой необходимости  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йствие в получении положенных мер социальной поддержки                  14,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ощь в написании и прочтении писем                                                             12,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йствие в обеспечении печатными изданиями                                              12,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дение медицинских процедур                                                                      7,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провождение к социальным объектам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(больница, магазин и др.)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гулки11,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ощь на приусадебном участке                                                                         1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азание санитарно-гигиенической помощи                                                       7,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ение вопросов, связанных с назначением и выплатой пенсии                     2,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ое: ремонт крыши,  уборка снега                                                                    2,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трудняюсь ответить                                                                                              2,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ощь в оформлении документов                                                                       1,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чти весь перечень                                                                                                1,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SDC14045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SDC14079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Что влияет на эффективность и качество работы социального работника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компактность проживания клиентов              53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чего не влияет                                                   11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ответили                                                            7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ая смена клиентов                                          7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блемы со здоровьем                                        7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. причины: надо меньше клиентов обслуживать за день; много бумажной работы                                       7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йные проблемы                                              3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несовместимость с кем-либо из    клиентов                                                                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несовместимость с заведующей отделением                                                           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SDC14056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DC14075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азовите трудности, с которыми приходится сталкиваться в процессе работы?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яжёлый физический труд                         4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ая отдалённость клиентов               4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или нехватка спецодежды      26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ые психологические нагрузки            15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сть информации и знаний   7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 трудностей                                            7,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еспеченность канцелярскими принадлежностями 3,8%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ь общения с родственниками    3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новление доброжелательных отношений с коллегами    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ние с руководством Центра           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какой мере Вы удовлетворены ассортиментом услуг в Центре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овлетворен                  52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ответили                     41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ично удовлетворен  2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удовлетворен              2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яюсь ответить     2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какой мере Вы удовлетворены стоимостью услуг в  Центр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ответили                      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овлетворен                    45,6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ично удовлетворен    6,7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удовлетворен                3,3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яюсь ответить       4,4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7" descr="SDC10629"/>
          <p:cNvPicPr/>
          <p:nvPr/>
        </p:nvPicPr>
        <p:blipFill>
          <a:blip r:embed="rId1"/>
          <a:stretch/>
        </p:blipFill>
        <p:spPr>
          <a:xfrm>
            <a:off x="4915080" y="37018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какой мере Вы удовлетворены качеством предоставления услуг социальным работник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914400"/>
            <a:ext cx="6858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ответили                     64,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овлетворен                   62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ично удовлетворен  1,1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яюсь ответить     1,1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удовлетворен              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какой мере Вы удовлетворены своевременностью предоставления услуг социальным работником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ответили                    58,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овлетворен                  57,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яюсь ответить    1,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ично удовлетворен 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удовлетворен             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SDC10618"/>
          <p:cNvPicPr/>
          <p:nvPr/>
        </p:nvPicPr>
        <p:blipFill>
          <a:blip r:embed="rId1"/>
          <a:stretch/>
        </p:blipFill>
        <p:spPr>
          <a:xfrm>
            <a:off x="5884920" y="457200"/>
            <a:ext cx="3259080" cy="4343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SDC13708"/>
          <p:cNvPicPr/>
          <p:nvPr/>
        </p:nvPicPr>
        <p:blipFill>
          <a:blip r:embed="rId2"/>
          <a:stretch/>
        </p:blipFill>
        <p:spPr>
          <a:xfrm>
            <a:off x="3429000" y="4414680"/>
            <a:ext cx="35053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какой мере Вы удовлетворены работой Цент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ностью удовлетворен    67,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ично удовлетворен       22,2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трудняюсь ответить          8,9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ответили                           1,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удовлетворен                   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сли Вы пользовались услугами Центра ранее, то как, по Вашему мнению, изменилась его работа за последнее время?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илась                             28,9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трудняюсь ответить             23,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талась на прежнем уровне 16,7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ответили                              14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рее улучшилась                 12,2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рее ухудшилось                 2,2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худшилась                              1,1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ользовалась услугами      1,1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BKDC0793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И каждый  час,  и каждую минуту,</a:t>
            </a:r>
            <a:br>
              <a:rPr sz="24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О  судьбах  чьих- то вечная забота.</a:t>
            </a:r>
            <a:br>
              <a:rPr sz="24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Кусочек сердца отдавать кому- то,</a:t>
            </a:r>
            <a:br>
              <a:rPr sz="2400"/>
            </a:b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Такая вот у нас работа….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Отделения социальной помощи на дому созданы для оказания пожилым гражданам посторонней помощи, поддержки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5" descr="SDC10160"/>
          <p:cNvPicPr/>
          <p:nvPr/>
        </p:nvPicPr>
        <p:blipFill>
          <a:blip r:embed="rId1"/>
          <a:stretch/>
        </p:blipFill>
        <p:spPr>
          <a:xfrm>
            <a:off x="2171880" y="29718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Что, по Вашему мнению, следует сделать, чтобы улучшить качество оказываемых услуг в Центре?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устраивает  1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угие предложения 90%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ить количество бесплатных услуг. Ввести бесплатное обслуживание. Повысить зар.плату соц.работникам. Чтобы не было очереди в срочном отделении. Быть внимательнее. Увеличить площадь помещения Центра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BKDC0791"/>
          <p:cNvPicPr/>
          <p:nvPr/>
        </p:nvPicPr>
        <p:blipFill>
          <a:blip r:embed="rId1"/>
          <a:stretch/>
        </p:blipFill>
        <p:spPr>
          <a:xfrm>
            <a:off x="380880" y="4267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BKDC0805"/>
          <p:cNvPicPr/>
          <p:nvPr/>
        </p:nvPicPr>
        <p:blipFill>
          <a:blip r:embed="rId2"/>
          <a:stretch/>
        </p:blipFill>
        <p:spPr>
          <a:xfrm>
            <a:off x="5029200" y="41911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BKDC0801"/>
          <p:cNvPicPr/>
          <p:nvPr/>
        </p:nvPicPr>
        <p:blipFill>
          <a:blip r:embed="rId1"/>
          <a:stretch/>
        </p:blipFill>
        <p:spPr>
          <a:xfrm>
            <a:off x="4724280" y="3735360"/>
            <a:ext cx="4164120" cy="3122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акими качествами, по Вашему мнению, должен обладать социальный работник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1446480"/>
            <a:ext cx="874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жливость, порядочность. Добросовестность, уважительность, доброжелательность, трудолюби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имательность, справедливость, аккуратный внешний вид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зывчивость, честность, компетентность, грамотность, заботливость, сопереживание, сочувствие, чутк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пение, сердечность, чистоплотность, тактичность, коммуникабельность, исполнительность, ответственность, доброта. Владеть полной информаци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4" descr="SDC14020"/>
          <p:cNvPicPr/>
          <p:nvPr/>
        </p:nvPicPr>
        <p:blipFill>
          <a:blip r:embed="rId2"/>
          <a:stretch/>
        </p:blipFill>
        <p:spPr>
          <a:xfrm>
            <a:off x="533520" y="3886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Уход и помощь социальных работников значительно облегчают жизнь пожилых людей, нуждающихся в помощи. Главным ориентиром всей деятельности отделений социальной помощи на дому всегда будет оставаться  человек, доверивший свои беды и заботы и надеющийся на то, что социальный работник сможет защитить его права и всегда поддержать в сложной ситуации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4" descr="SDC11984"/>
          <p:cNvPicPr/>
          <p:nvPr/>
        </p:nvPicPr>
        <p:blipFill>
          <a:blip r:embed="rId1"/>
          <a:stretch/>
        </p:blipFill>
        <p:spPr>
          <a:xfrm>
            <a:off x="304920" y="2895480"/>
            <a:ext cx="4343400" cy="348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DC14012"/>
          <p:cNvPicPr/>
          <p:nvPr/>
        </p:nvPicPr>
        <p:blipFill>
          <a:blip r:embed="rId2"/>
          <a:stretch/>
        </p:blipFill>
        <p:spPr>
          <a:xfrm>
            <a:off x="5029200" y="2895480"/>
            <a:ext cx="41148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отделений социального обслуживания на дому граждан пожилого возраста и инвалидов направлена на максимально возможное продление пребывания граждан в привычной среде обитания и поддержания их социального, психологического и физического стату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7" descr="SDC10619"/>
          <p:cNvPicPr/>
          <p:nvPr/>
        </p:nvPicPr>
        <p:blipFill>
          <a:blip r:embed="rId1"/>
          <a:stretch/>
        </p:blipFill>
        <p:spPr>
          <a:xfrm>
            <a:off x="457200" y="3049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SDC10631"/>
          <p:cNvPicPr/>
          <p:nvPr/>
        </p:nvPicPr>
        <p:blipFill>
          <a:blip r:embed="rId2"/>
          <a:stretch/>
        </p:blipFill>
        <p:spPr>
          <a:xfrm>
            <a:off x="45720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952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оким гражданам и гражданам, частично утратившим способность к самообслуживанию в связи с преклонным возрастом, болезнью, инвалидностью, в зависимости от степени и характера нуждаемости, в порядке очередности,  предоставляется помощь на дому в виде социально-бытовых, консультативных и иных услуг, входящих в перечень гарантированных государством социальных услуг, а также оказания, по их желанию, дополнительных социальных услуг. Дополнительные услуги предоставляются на условиях полной опла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SDC10144"/>
          <p:cNvPicPr/>
          <p:nvPr/>
        </p:nvPicPr>
        <p:blipFill>
          <a:blip r:embed="rId1"/>
          <a:stretch/>
        </p:blipFill>
        <p:spPr>
          <a:xfrm>
            <a:off x="5029200" y="2286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DC10157"/>
          <p:cNvPicPr/>
          <p:nvPr/>
        </p:nvPicPr>
        <p:blipFill>
          <a:blip r:embed="rId2"/>
          <a:stretch/>
        </p:blipFill>
        <p:spPr>
          <a:xfrm>
            <a:off x="5105520" y="3505320"/>
            <a:ext cx="38862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В настоящее время в МБУ СО «КЦСОН «Абанский»  функционируют </a:t>
            </a: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3 отделения социального обслуживания на дому. Социальным обслуживанием на дому охвачены  граждане 17 населенных пунктов района из 64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 Непосредственный уход за пожилыми, численность, которых 197 человек, осуществляют социальные работники – их более 50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Object 25"/>
          <p:cNvGraphicFramePr/>
          <p:nvPr/>
        </p:nvGraphicFramePr>
        <p:xfrm>
          <a:off x="1066680" y="1066680"/>
          <a:ext cx="35816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3581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13" descr="SDC10626"/>
          <p:cNvPicPr/>
          <p:nvPr/>
        </p:nvPicPr>
        <p:blipFill>
          <a:blip r:embed="rId3"/>
          <a:stretch/>
        </p:blipFill>
        <p:spPr>
          <a:xfrm>
            <a:off x="6019920" y="10666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SDC14036"/>
          <p:cNvPicPr/>
          <p:nvPr/>
        </p:nvPicPr>
        <p:blipFill>
          <a:blip r:embed="rId4"/>
          <a:stretch/>
        </p:blipFill>
        <p:spPr>
          <a:xfrm>
            <a:off x="914400" y="3886200"/>
            <a:ext cx="243036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BKDC0844"/>
          <p:cNvPicPr/>
          <p:nvPr/>
        </p:nvPicPr>
        <p:blipFill>
          <a:blip r:embed="rId5"/>
          <a:stretch/>
        </p:blipFill>
        <p:spPr>
          <a:xfrm>
            <a:off x="4876920" y="4057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амках проводимой Недели качества среди  клиентов и социальных работников отделений социального обслуживания на дому было проведено анкетирование. Цель анкетирования -  выявление  степени  эффективности и качества  предоставления социальных услу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51 работающего социального работника опросом  было охвачено 35 человек, т.е. 68,8% всей численности социальных работников. Социальные работники охвачены опросом недостаточно полно из-за ряда объективных причин, в том числе из-за отдаленности населенных пунктов, где работают социальные работни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SDC10620"/>
          <p:cNvPicPr/>
          <p:nvPr/>
        </p:nvPicPr>
        <p:blipFill>
          <a:blip r:embed="rId1"/>
          <a:stretch/>
        </p:blipFill>
        <p:spPr>
          <a:xfrm>
            <a:off x="5562720" y="152280"/>
            <a:ext cx="2990880" cy="398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SDC14024"/>
          <p:cNvPicPr/>
          <p:nvPr/>
        </p:nvPicPr>
        <p:blipFill>
          <a:blip r:embed="rId2"/>
          <a:stretch/>
        </p:blipFill>
        <p:spPr>
          <a:xfrm>
            <a:off x="5486400" y="43434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з 8 436 пенсионеров и инвалидов района  социальным обслуживанием на дому  охвачено 197 человек, что составляет всего 2,3% 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Из  164 обслуживаемых анкетированием охвачено 90 человек- почти  55 % всех обслуживаемых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Object 7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4038840" cy="3156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BKDC0784"/>
          <p:cNvPicPr/>
          <p:nvPr/>
        </p:nvPicPr>
        <p:blipFill>
          <a:blip r:embed="rId2"/>
          <a:stretch/>
        </p:blipFill>
        <p:spPr>
          <a:xfrm>
            <a:off x="0" y="22860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66% опрошенных клиентов – женщины.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олее 44% опрошенных клиентов- старше 75 лет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олее 25% обслуживаемых- от 60 до 75 лет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ым обслуживанием на дому охвачены различные категории населения района: пенсионеры и инвалиды, участники ВОВ и вдовы, труженики тыла и ветераны тру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9" descr="BKDC0836"/>
          <p:cNvPicPr/>
          <p:nvPr/>
        </p:nvPicPr>
        <p:blipFill>
          <a:blip r:embed="rId1"/>
          <a:stretch/>
        </p:blipFill>
        <p:spPr>
          <a:xfrm>
            <a:off x="42670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олетта</dc:creator>
  <dc:description/>
  <dc:language>en-US</dc:language>
  <cp:lastModifiedBy>Admin</cp:lastModifiedBy>
  <dcterms:modified xsi:type="dcterms:W3CDTF">2012-06-27T03:00:0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