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AB24-4087-4C60-9C68-BD253C893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29B-7877-4ABF-8812-C3E344EC0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D45-5D2B-461B-8BEC-4E11111AE3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A56-DFD9-4EC5-B66D-094871743D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07CE-8B98-4B04-9A4A-E07AF0A7C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02A-F759-4DB9-84AB-4CB7B2AF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7A8-7951-4A02-B71C-CB894CB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C7B-1D0C-438E-8A46-6BDEE49D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B21-A70F-41D2-8932-CCCC03ED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2FE7-C8A0-4E63-A517-C026F938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048F-2654-4F2F-A07B-CF514D53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773-38C0-4CBB-A1BA-80E90C2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0198-0425-4181-A555-FD8463C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A09-FEBD-427C-8B23-BBC98FA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5A9D-CB46-4CA3-8CF2-E6A305C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82C-804F-4B00-872C-DE50425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8E4-6456-4F71-8E93-D15F8FB4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57C-0D1F-4735-BD2C-1289276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7D0-FFC8-4D60-A926-E22A641B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543-6D0E-4FE9-825B-0C259CC8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E8DC-A9B2-4907-A8FB-90187A7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CAAE-F0FF-4A15-83CB-9F1F681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99DC-D308-4AE8-94A8-7E2516EB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25BB-D71C-4BC0-96C7-9418023D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518E-C9AB-4802-BF18-286159A0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99E8-1885-495B-B726-06954163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0543-0158-4B36-81F0-1DBAA03A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97F-58F8-4AE7-AFC0-4E0EA8B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06FF-214D-4333-85EC-879BB862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6C01-76E1-400E-B2E2-4C98A31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CB3E-7A7B-4BA6-BB31-0C13A03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806A-E4AF-492D-AA8C-3C1A4EB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56FE-C1BD-4A42-B8AD-D01081D2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2EFD-D6C0-41F9-B782-65323F3A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7DB7-EFB2-4DDA-BC33-996A3443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B4AE-509E-4B30-8B09-EFB4301A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1F1F-A24F-450B-A0A2-D6A45B36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8818-49E1-405C-A415-BBCEF087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67D-2FB4-42C8-8187-E439CB4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340A-FEC1-4F70-8C29-9F39900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10BD-D7D2-495F-8754-B9106F88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4112-3054-4461-AD22-3A1450A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DC27-8363-437A-82C7-8ACD5B2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AF05-2739-4531-9F0A-C7FD1F0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AF5F-2431-497D-ADEB-5009FE2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88DB-0F11-4888-9FEE-99C75914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26A1-8792-43F4-83D5-D2E96BB6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E684-D4A5-4807-88D2-F08EE072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EBB4-D337-4514-A9E6-54D8A23A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2A1-1539-4D3F-A388-2C6E831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DD2D-6EB0-475B-94C3-5F24938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D896-3A8F-4561-9C93-73FB393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A71C-A778-4FBE-88EA-8D3DFB5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1B52-2901-423D-9855-F7150AE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CDF73-8E5B-4A19-A7BF-65519B28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C834-68D2-44C9-B350-2B765DA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A4EC-4177-4067-BF2F-CBFE83E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A31F-7AE4-45CA-B6FF-B1044AED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A113-72F1-4432-AF18-94D0251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E48E-FA47-4FB4-B356-28398FD4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02A-AB3E-4600-A8AD-99D893FC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488B-4838-45CC-8D1B-C28C1DE0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2AB-0F73-46AB-A6D2-C066410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C21-3EE4-4F5C-82A4-219838D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FA2-73C9-4119-B50A-6D2995A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FE4B-554A-4AA4-9CF6-725325FC97C9}" type="datetime">
              <a:rPr b="0" lang="ru-RU" sz="1000" spc="-1" strike="noStrike">
                <a:solidFill>
                  <a:srgbClr val="ada28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EA14-4C33-4823-B43A-B2B7AB6EABDD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114-F630-4380-A908-44CCBC09D613}" type="datetime">
              <a:rPr b="0" lang="ru-RU" sz="1000" spc="-1" strike="noStrike">
                <a:solidFill>
                  <a:srgbClr val="ada28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82FF-E897-4C4C-AEE3-8358978E623F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34E-6161-4808-973C-7F889BF95BC2}" type="datetime">
              <a:rPr b="0" lang="ru-RU" sz="1000" spc="-1" strike="noStrike">
                <a:solidFill>
                  <a:srgbClr val="ada28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06CD-693D-4526-A773-616A32927320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7CC-710F-4BF7-9EC8-9AC8AED8A39C}" type="datetime">
              <a:rPr b="0" lang="ru-RU" sz="1000" spc="-1" strike="noStrike">
                <a:solidFill>
                  <a:srgbClr val="ada28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E725-13E2-42A4-9C0F-26C6D0C0D811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768-BD93-44A2-B3D5-3D5066E88ABB}" type="datetime">
              <a:rPr b="0" lang="ru-RU" sz="1000" spc="-1" strike="noStrike">
                <a:solidFill>
                  <a:srgbClr val="ada28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da28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ADA-6495-4D86-9BEB-B9E3135ECAC6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99760" y="4143240"/>
            <a:ext cx="5000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5143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7FD-CA0C-457C-ADC8-7EF8E538AD39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U:\4. Выполнение процесса\3. Выборочные обследования\1. Затраты-выпуск\ИРР\Буклет для Форума\logo-final.jpg"/>
          <p:cNvPicPr/>
          <p:nvPr/>
        </p:nvPicPr>
        <p:blipFill>
          <a:blip r:embed="rId1"/>
          <a:stretch/>
        </p:blipFill>
        <p:spPr>
          <a:xfrm>
            <a:off x="1214280" y="571680"/>
            <a:ext cx="6929640" cy="5214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E09-BAF8-4A87-B52F-7D73D3719C74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6" descr="U:\4. Выполнение процесса\3. Выборочные обследования\1. Затраты-выпуск\ИРР\Буклет для Форума\logo-final.jpg"/>
          <p:cNvPicPr/>
          <p:nvPr/>
        </p:nvPicPr>
        <p:blipFill>
          <a:blip r:embed="rId1"/>
          <a:stretch/>
        </p:blipFill>
        <p:spPr>
          <a:xfrm>
            <a:off x="5500800" y="500040"/>
            <a:ext cx="298908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6" descr=""/>
          <p:cNvPicPr/>
          <p:nvPr/>
        </p:nvPicPr>
        <p:blipFill>
          <a:blip r:embed="rId2"/>
          <a:stretch/>
        </p:blipFill>
        <p:spPr>
          <a:xfrm>
            <a:off x="706320" y="3352680"/>
            <a:ext cx="7944120" cy="243864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10"/>
          <p:cNvSpPr/>
          <p:nvPr/>
        </p:nvSpPr>
        <p:spPr>
          <a:xfrm>
            <a:off x="1071720" y="3286080"/>
            <a:ext cx="7429320" cy="192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cap="sq" w="28440">
            <a:solidFill>
              <a:srgbClr val="d0a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ормативно-правов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аспоряжение Правительства Российской Федерации 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т 14 февраля 2009 г. № 201-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6" descr=""/>
          <p:cNvPicPr/>
          <p:nvPr/>
        </p:nvPicPr>
        <p:blipFill>
          <a:blip r:embed="rId1"/>
          <a:stretch/>
        </p:blipFill>
        <p:spPr>
          <a:xfrm>
            <a:off x="353880" y="2279520"/>
            <a:ext cx="8309160" cy="372456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CDC-10AD-4B95-9BED-2D6ED6D63A25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0"/>
          <p:cNvSpPr/>
          <p:nvPr/>
        </p:nvSpPr>
        <p:spPr>
          <a:xfrm>
            <a:off x="785880" y="500040"/>
            <a:ext cx="4643280" cy="642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cap="sq" w="28440">
            <a:solidFill>
              <a:srgbClr val="d0a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Цель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U:\4. Выполнение процесса\3. Выборочные обследования\1. Затраты-выпуск\ИРР\Буклет для Форума\logo-final.jpg"/>
          <p:cNvPicPr/>
          <p:nvPr/>
        </p:nvPicPr>
        <p:blipFill>
          <a:blip r:embed="rId3"/>
          <a:stretch/>
        </p:blipFill>
        <p:spPr>
          <a:xfrm>
            <a:off x="6429240" y="571680"/>
            <a:ext cx="2071800" cy="1500120"/>
          </a:xfrm>
          <a:prstGeom prst="rect">
            <a:avLst/>
          </a:prstGeom>
          <a:ln w="0">
            <a:noFill/>
          </a:ln>
        </p:spPr>
      </p:pic>
      <p:sp>
        <p:nvSpPr>
          <p:cNvPr id="240" name="Скругленный прямоугольник 10"/>
          <p:cNvSpPr/>
          <p:nvPr/>
        </p:nvSpPr>
        <p:spPr>
          <a:xfrm>
            <a:off x="500040" y="2214720"/>
            <a:ext cx="8215200" cy="13572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cap="sq" w="28440">
            <a:solidFill>
              <a:srgbClr val="d0a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C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оздание информационной основы для разработки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базовых таблиц «затраты - выпуск», являющихся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составной частью Системы национальных счетов (С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26"/>
          <p:cNvSpPr/>
          <p:nvPr/>
        </p:nvSpPr>
        <p:spPr>
          <a:xfrm>
            <a:off x="2928960" y="1285920"/>
            <a:ext cx="484200" cy="642960"/>
          </a:xfrm>
          <a:prstGeom prst="downArrow">
            <a:avLst>
              <a:gd name="adj1" fmla="val 50000"/>
              <a:gd name="adj2" fmla="val 50048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0"/>
          <p:cNvSpPr/>
          <p:nvPr/>
        </p:nvSpPr>
        <p:spPr>
          <a:xfrm>
            <a:off x="357120" y="3929040"/>
            <a:ext cx="8429760" cy="2143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cap="sq" w="28440">
            <a:solidFill>
              <a:srgbClr val="d0a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Обеспечение органов власти, научных круг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детализированной информацией о структурных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порциях и межотраслевых связях в экономике страны,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необходимой для прогнозирования и принятия решен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 в области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23680" y="823680"/>
            <a:ext cx="4995720" cy="709560"/>
          </a:xfrm>
          <a:prstGeom prst="rect">
            <a:avLst/>
          </a:prstGeom>
          <a:blipFill rotWithShape="0">
            <a:blip r:embed="rId1"/>
            <a:stretch/>
          </a:blipFill>
          <a:ln cap="sq" w="28440">
            <a:solidFill>
              <a:srgbClr val="d0af72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Verdana"/>
                <a:ea typeface="Arial"/>
              </a:rPr>
              <a:t>Задачи наблюд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BE0-B39C-4B2E-89E5-04D19708D2B6}" type="slidenum">
              <a:rPr b="0" lang="ru-RU" sz="1000" spc="-1" strike="noStrike">
                <a:solidFill>
                  <a:srgbClr val="ada2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7162920" y="1522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92C3-97BA-4732-B649-E1E1749A82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0"/>
          <p:cNvSpPr/>
          <p:nvPr/>
        </p:nvSpPr>
        <p:spPr>
          <a:xfrm>
            <a:off x="500040" y="2928960"/>
            <a:ext cx="8215200" cy="27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cap="sq" w="28440">
            <a:solidFill>
              <a:srgbClr val="d0a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олучение таблиц «затраты - выпуск»,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которые позволят качественно описать экономику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страны, оценить систему ценообразования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 налогообложения, определить уровень межотраслевых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 связей, пропорций между конечным и промежуточным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спросом по группам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17"/>
          <p:cNvSpPr/>
          <p:nvPr/>
        </p:nvSpPr>
        <p:spPr>
          <a:xfrm>
            <a:off x="3286080" y="1714680"/>
            <a:ext cx="484200" cy="92844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94b6d2"/>
          </a:solid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U:\4. Выполнение процесса\3. Выборочные обследования\1. Затраты-выпуск\ИРР\Буклет для Форума\logo-final.jpg"/>
          <p:cNvPicPr/>
          <p:nvPr/>
        </p:nvPicPr>
        <p:blipFill>
          <a:blip r:embed="rId3"/>
          <a:stretch/>
        </p:blipFill>
        <p:spPr>
          <a:xfrm>
            <a:off x="6429240" y="571680"/>
            <a:ext cx="207180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2:48:04Z</dcterms:created>
  <dc:creator>sitsakova</dc:creator>
  <dc:description/>
  <dc:language>en-US</dc:language>
  <cp:lastModifiedBy>OEM</cp:lastModifiedBy>
  <dcterms:modified xsi:type="dcterms:W3CDTF">2011-10-05T03:38:39Z</dcterms:modified>
  <cp:revision>1250</cp:revision>
  <dc:subject/>
  <dc:title>Слайд 1</dc:title>
</cp:coreProperties>
</file>