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09B-0473-4370-AE9B-06E57055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32A-D7BB-4C11-9D4B-494C0A8E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71F-2D1E-4D3C-8755-10BCE493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873-ED1A-41EE-B6F0-AAC78C2E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30F6-40FF-4045-B7EA-1792B6CF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F346-AA27-4E2D-A5B1-20968919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558B-7ABF-4BED-A232-6DFA74F3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ACB8-0862-4BC3-B31D-F075F592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4493-5304-48E1-9B57-8E86C745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9948-4109-42BC-AC1C-FD1AAC2A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A6ED-A626-48CE-AA3F-266D931C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7B7-9CEB-4D16-937F-2072F118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C0C3-C754-40D6-9C85-20F127AC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A6FA-81F8-46EA-9359-7FB2DB39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3B0E-F2AC-457A-A222-B4B879FD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AF8A-7FE5-4A26-9782-00611EFA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E206-D2D0-41D2-AC50-2BAFEB35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558BC-2A0D-4529-8117-1B410B14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5BC67-7F24-4D47-87F6-9892BFD8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D3E14-1621-4D0D-832F-01DA16A1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B92D2-362E-4A6F-A2AB-D9FE39C9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AC60D-9C5D-46A7-80C6-5F2974F6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21A-0978-4D3F-999F-92EEE7FB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E17CD-9E04-4246-BAB9-133EE041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BBFB-A711-4A50-BEEA-7A2ABA85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1CD4E-DB19-485C-9933-D967F706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D6EA8-E2DA-438B-BD2E-2FCFEE37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5638-9B68-4B14-9733-BABF3148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584E-0222-4DE7-94E4-46161B1B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8A1C3-522A-4ABE-BCE7-19B8BD97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AA8BE-B81D-4553-89D9-C4856EAF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391DB-97C0-4056-89D6-9CEBD676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8A85C-A36C-49A8-8123-74CBDE42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EE1-3E7D-4E35-9368-BEDB401A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7F440-F3F2-4050-89E7-A0463D49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8D093-68C5-4001-A6CD-48238600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B5AC9-8056-4D3A-A202-FAEF94F3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D10BD-66DB-4A24-BAAC-7F52B3BC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BDD04-FFA8-41E3-9F3F-2109DA60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77E61-16D5-4B9B-BD4A-D966A27F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F038F-827C-4656-A078-0CB8DD23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D63F7-76DF-4789-9A0B-7798320A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70A5F-6FBF-4EFB-A7DE-EAE6D37C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815A5-F548-468D-8AEC-4723A4E7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BCB-5EA3-43C1-81C7-A3753741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6EF7A-754E-46F6-A015-90A95747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C0113-E9D4-4165-897C-1B226B56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33658-251A-44E4-BC96-30688EE5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4FABA-BF54-40B7-AC8A-D2EDD1C5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3FC46-7A19-4818-833D-33143872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550D1-90CE-4FEF-A6DB-3645F41C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F6882-7A61-4367-832C-7441FD8C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102A2-A3A3-40F5-B1D3-09ED5FA5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002A1-16FB-40C2-9D62-8B941186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5005E-AE8E-4476-A156-78EAAD65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467-EF26-4F29-A505-8765C3C3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C6E9C-F206-4FDA-BED7-1F525948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320-06BF-4F94-880F-678D8101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71E2-6DFE-4495-82E8-EBAD66F3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304-0FA4-4113-BB23-B78A5106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5FC3-544A-4262-8D05-A42AFE866344}" type="slidenum">
              <a:rPr b="0" lang="ru-RU" sz="1200" spc="-1" strike="noStrike">
                <a:solidFill>
                  <a:srgbClr val="a93c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3A30-9E51-4C7B-AC91-33F26EC217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38A8-7576-40E7-AEBF-2D2448C17D95}" type="slidenum">
              <a:rPr b="0" lang="ru-RU" sz="1200" spc="-1" strike="noStrike">
                <a:solidFill>
                  <a:srgbClr val="e9dc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61CB-B67B-43FD-B840-812BD4B27D88}" type="slidenum">
              <a:rPr b="0" lang="ru-RU" sz="1200" spc="-1" strike="noStrike">
                <a:solidFill>
                  <a:srgbClr val="e9dc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18CD-F5A9-4D08-B3EC-6BDD5356AE19}" type="slidenum">
              <a:rPr b="0" lang="ru-RU" sz="1200" spc="-1" strike="noStrike">
                <a:solidFill>
                  <a:srgbClr val="a93c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9" descr="PA210011"/>
          <p:cNvPicPr/>
          <p:nvPr/>
        </p:nvPicPr>
        <p:blipFill>
          <a:blip r:embed="rId1"/>
          <a:stretch/>
        </p:blipFill>
        <p:spPr>
          <a:xfrm>
            <a:off x="252360" y="189000"/>
            <a:ext cx="8639280" cy="6480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1268280"/>
            <a:ext cx="754524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  социально-экономического развит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анского райо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2030 года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4" descr="Герб Абан"/>
          <p:cNvPicPr/>
          <p:nvPr/>
        </p:nvPicPr>
        <p:blipFill>
          <a:blip r:embed="rId2"/>
          <a:stretch/>
        </p:blipFill>
        <p:spPr>
          <a:xfrm>
            <a:off x="4356000" y="476280"/>
            <a:ext cx="576360" cy="782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Calibri"/>
              </a:rPr>
              <a:t>Стратегическая цель</a:t>
            </a: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: 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844280"/>
            <a:ext cx="8229600" cy="4753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вышении уровня и качества жизни населения на основе инновационной модернизации аграрного комплекса, развития социальной сферы, инженерной и транспортной инфраструктуры, формирования благоприятного инвестиционного климата и среды проживания, на основе создания эффективной системы муниципального управл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875340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5"/>
          <p:cNvSpPr/>
          <p:nvPr/>
        </p:nvSpPr>
        <p:spPr>
          <a:xfrm>
            <a:off x="539640" y="3573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Схема 9" descr=""/>
          <p:cNvPicPr/>
          <p:nvPr/>
        </p:nvPicPr>
        <p:blipFill>
          <a:blip r:embed="rId2"/>
          <a:stretch/>
        </p:blipFill>
        <p:spPr>
          <a:xfrm>
            <a:off x="304920" y="2262240"/>
            <a:ext cx="8858160" cy="320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Скругленный прямоугольник 1"/>
          <p:cNvGrpSpPr/>
          <p:nvPr/>
        </p:nvGrpSpPr>
        <p:grpSpPr>
          <a:xfrm>
            <a:off x="291960" y="304920"/>
            <a:ext cx="8553600" cy="847440"/>
            <a:chOff x="291960" y="304920"/>
            <a:chExt cx="8553600" cy="847440"/>
          </a:xfrm>
        </p:grpSpPr>
        <p:pic>
          <p:nvPicPr>
            <p:cNvPr id="25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91960" y="304920"/>
              <a:ext cx="855360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61800" y="371520"/>
              <a:ext cx="84204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витие человеческого капитала</a:t>
              </a: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Скругленный прямоугольник 5"/>
          <p:cNvSpPr/>
          <p:nvPr/>
        </p:nvSpPr>
        <p:spPr>
          <a:xfrm>
            <a:off x="395280" y="1341360"/>
            <a:ext cx="2521080" cy="64764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е жилищных условий и качества жизн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6"/>
          <p:cNvSpPr/>
          <p:nvPr/>
        </p:nvSpPr>
        <p:spPr>
          <a:xfrm>
            <a:off x="3203640" y="155736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населения района качественными жилищно-коммунальными услугам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7"/>
          <p:cNvSpPr/>
          <p:nvPr/>
        </p:nvSpPr>
        <p:spPr>
          <a:xfrm>
            <a:off x="6012000" y="1268280"/>
            <a:ext cx="2736720" cy="57636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качественным образованием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8"/>
          <p:cNvSpPr/>
          <p:nvPr/>
        </p:nvSpPr>
        <p:spPr>
          <a:xfrm>
            <a:off x="250920" y="2205000"/>
            <a:ext cx="2305080" cy="1295280"/>
          </a:xfrm>
          <a:prstGeom prst="roundRect">
            <a:avLst>
              <a:gd name="adj" fmla="val 16667"/>
            </a:avLst>
          </a:prstGeom>
          <a:solidFill>
            <a:srgbClr val="21ff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качества жизни  и социально-незащищенных категорий населения и степени их защищенност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9"/>
          <p:cNvSpPr/>
          <p:nvPr/>
        </p:nvSpPr>
        <p:spPr>
          <a:xfrm>
            <a:off x="2771640" y="5516640"/>
            <a:ext cx="3313080" cy="105876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 качественных культурно-досуговых услуг, поддержка многообразия культурной жизни района и творческих инициатив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10"/>
          <p:cNvSpPr/>
          <p:nvPr/>
        </p:nvSpPr>
        <p:spPr>
          <a:xfrm>
            <a:off x="324000" y="5229360"/>
            <a:ext cx="2232000" cy="143964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молодежи в социально-экономической, политической и культурной жизни обществ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11"/>
          <p:cNvSpPr/>
          <p:nvPr/>
        </p:nvSpPr>
        <p:spPr>
          <a:xfrm>
            <a:off x="6300720" y="4076640"/>
            <a:ext cx="2519280" cy="108108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охраны окружающей среды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13"/>
          <p:cNvSpPr/>
          <p:nvPr/>
        </p:nvSpPr>
        <p:spPr>
          <a:xfrm>
            <a:off x="3059280" y="2997360"/>
            <a:ext cx="2376360" cy="230328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38160">
            <a:solidFill>
              <a:srgbClr val="0c04a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я достижения поставленной цели необходимо решить следующие задачи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ашивка 15"/>
          <p:cNvSpPr/>
          <p:nvPr/>
        </p:nvSpPr>
        <p:spPr>
          <a:xfrm rot="16200000">
            <a:off x="4066920" y="2492280"/>
            <a:ext cx="486000" cy="485640"/>
          </a:xfrm>
          <a:custGeom>
            <a:avLst/>
            <a:gdLst>
              <a:gd name="textAreaLeft" fmla="*/ 0 w 486000"/>
              <a:gd name="textAreaRight" fmla="*/ 486360 w 4860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c04a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ашивка 16"/>
          <p:cNvSpPr/>
          <p:nvPr/>
        </p:nvSpPr>
        <p:spPr>
          <a:xfrm rot="13456800">
            <a:off x="2871720" y="2809080"/>
            <a:ext cx="486000" cy="484200"/>
          </a:xfrm>
          <a:custGeom>
            <a:avLst/>
            <a:gdLst>
              <a:gd name="textAreaLeft" fmla="*/ 0 w 486000"/>
              <a:gd name="textAreaRight" fmla="*/ 486360 w 4860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35" y="0"/>
                </a:lnTo>
                <a:lnTo>
                  <a:pt x="21600" y="10800"/>
                </a:lnTo>
                <a:lnTo>
                  <a:pt x="10835" y="21600"/>
                </a:lnTo>
                <a:lnTo>
                  <a:pt x="0" y="21600"/>
                </a:lnTo>
                <a:lnTo>
                  <a:pt x="10765" y="10800"/>
                </a:lnTo>
                <a:close/>
              </a:path>
            </a:pathLst>
          </a:custGeom>
          <a:solidFill>
            <a:srgbClr val="1418b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ашивка 17"/>
          <p:cNvSpPr/>
          <p:nvPr/>
        </p:nvSpPr>
        <p:spPr>
          <a:xfrm rot="10800000">
            <a:off x="2577960" y="3739680"/>
            <a:ext cx="486000" cy="484200"/>
          </a:xfrm>
          <a:custGeom>
            <a:avLst/>
            <a:gdLst>
              <a:gd name="textAreaLeft" fmla="*/ 0 w 486000"/>
              <a:gd name="textAreaRight" fmla="*/ 486360 w 4860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35" y="0"/>
                </a:lnTo>
                <a:lnTo>
                  <a:pt x="21600" y="10800"/>
                </a:lnTo>
                <a:lnTo>
                  <a:pt x="10835" y="21600"/>
                </a:lnTo>
                <a:lnTo>
                  <a:pt x="0" y="21600"/>
                </a:lnTo>
                <a:lnTo>
                  <a:pt x="10765" y="10800"/>
                </a:lnTo>
                <a:close/>
              </a:path>
            </a:pathLst>
          </a:custGeom>
          <a:solidFill>
            <a:srgbClr val="1418b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ашивка 18"/>
          <p:cNvSpPr/>
          <p:nvPr/>
        </p:nvSpPr>
        <p:spPr>
          <a:xfrm rot="8012400">
            <a:off x="3006720" y="49597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c04a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Нашивка 19"/>
          <p:cNvSpPr/>
          <p:nvPr/>
        </p:nvSpPr>
        <p:spPr>
          <a:xfrm rot="19323000">
            <a:off x="5244840" y="2950920"/>
            <a:ext cx="485640" cy="484200"/>
          </a:xfrm>
          <a:custGeom>
            <a:avLst/>
            <a:gdLst>
              <a:gd name="textAreaLeft" fmla="*/ 0 w 485640"/>
              <a:gd name="textAreaRight" fmla="*/ 486000 w 48564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35" y="0"/>
                </a:lnTo>
                <a:lnTo>
                  <a:pt x="21600" y="10800"/>
                </a:lnTo>
                <a:lnTo>
                  <a:pt x="10835" y="21600"/>
                </a:lnTo>
                <a:lnTo>
                  <a:pt x="0" y="21600"/>
                </a:lnTo>
                <a:lnTo>
                  <a:pt x="10765" y="10800"/>
                </a:lnTo>
                <a:close/>
              </a:path>
            </a:pathLst>
          </a:custGeom>
          <a:solidFill>
            <a:srgbClr val="1418b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ашивка 20"/>
          <p:cNvSpPr/>
          <p:nvPr/>
        </p:nvSpPr>
        <p:spPr>
          <a:xfrm>
            <a:off x="5508720" y="386064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c04a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ашивка 21"/>
          <p:cNvSpPr/>
          <p:nvPr/>
        </p:nvSpPr>
        <p:spPr>
          <a:xfrm rot="2673600">
            <a:off x="5103720" y="4897440"/>
            <a:ext cx="486000" cy="484200"/>
          </a:xfrm>
          <a:custGeom>
            <a:avLst/>
            <a:gdLst>
              <a:gd name="textAreaLeft" fmla="*/ 0 w 486000"/>
              <a:gd name="textAreaRight" fmla="*/ 486360 w 4860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35" y="0"/>
                </a:lnTo>
                <a:lnTo>
                  <a:pt x="21600" y="10800"/>
                </a:lnTo>
                <a:lnTo>
                  <a:pt x="10835" y="21600"/>
                </a:lnTo>
                <a:lnTo>
                  <a:pt x="0" y="21600"/>
                </a:lnTo>
                <a:lnTo>
                  <a:pt x="10765" y="10800"/>
                </a:lnTo>
                <a:close/>
              </a:path>
            </a:pathLst>
          </a:custGeom>
          <a:solidFill>
            <a:srgbClr val="1418b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23"/>
          <p:cNvSpPr/>
          <p:nvPr/>
        </p:nvSpPr>
        <p:spPr>
          <a:xfrm>
            <a:off x="6156360" y="2133720"/>
            <a:ext cx="2592360" cy="1295280"/>
          </a:xfrm>
          <a:prstGeom prst="roundRect">
            <a:avLst>
              <a:gd name="adj" fmla="val 16667"/>
            </a:avLst>
          </a:prstGeom>
          <a:solidFill>
            <a:srgbClr val="21ff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е качества жизни жителей через участие в занятиях физической культурой и спортом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24"/>
          <p:cNvSpPr/>
          <p:nvPr/>
        </p:nvSpPr>
        <p:spPr>
          <a:xfrm>
            <a:off x="395280" y="3789360"/>
            <a:ext cx="2160720" cy="1224000"/>
          </a:xfrm>
          <a:prstGeom prst="roundRect">
            <a:avLst>
              <a:gd name="adj" fmla="val 16667"/>
            </a:avLst>
          </a:prstGeom>
          <a:solidFill>
            <a:srgbClr val="21ff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доступности и качества оказания медицинской помощ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25"/>
          <p:cNvSpPr/>
          <p:nvPr/>
        </p:nvSpPr>
        <p:spPr>
          <a:xfrm>
            <a:off x="6516720" y="5516640"/>
            <a:ext cx="2376360" cy="1079280"/>
          </a:xfrm>
          <a:prstGeom prst="roundRect">
            <a:avLst>
              <a:gd name="adj" fmla="val 16667"/>
            </a:avLst>
          </a:prstGeom>
          <a:solidFill>
            <a:srgbClr val="21ff7b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ынка труда и занятости населе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6840" y="277560"/>
            <a:ext cx="8147160" cy="58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Улучшение жилищных условий и качества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ля стимулирования развития жилищного строительства  на территории Абанского района планируется организовать работу по следующим направления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рриториальное планирование Абанского рай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ормирование системы капитального ремонта многоквартирных дом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вершенствование управления жилищным фонд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6840" y="277560"/>
            <a:ext cx="8218440" cy="63910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перспективе планируе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а) Комплексная застройка микрорайона «Южный»  в п. Абан, где   до 2030 года,  будут  построены  частные жилые дома с инфраструктурным  обеспечени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) Строительство 2-х этажного 16-ти квартирного жилого дома в Абанском сельсовете,   2020 - 2021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)  До 2030 года в Абанском сельсовете  запланировано  строительство 20-ти квартир предприятием ООО «Мана», в рамках государственной  программы Красноярского края «Развитие сельского хозяйства и регулирование рынков сельскохозяйственной продукции, сырья и продовольствия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844280"/>
            <a:ext cx="8075520" cy="4753080"/>
          </a:xfrm>
          <a:prstGeom prst="rect">
            <a:avLst/>
          </a:prstGeom>
          <a:gradFill rotWithShape="0">
            <a:gsLst>
              <a:gs pos="0">
                <a:srgbClr val="b7d0f1"/>
              </a:gs>
              <a:gs pos="100000">
                <a:srgbClr val="e8effa"/>
              </a:gs>
            </a:gsLst>
            <a:lin ang="8100000"/>
          </a:gradFill>
          <a:ln w="9360">
            <a:solidFill>
              <a:srgbClr val="c6d9f1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работка схем теплоснабжения, водоснабжения, программ комплексного развития коммунальной инфраструкту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тверждение планов мероприятий по приведению качества воды в  соответствие с установленными требовани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тие и модернизация коммунальной инфраструктуры (систем теплоснабжения, водоснабжения, водоотведения, котельных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еспечение социальной поддержки населения по оплате жилищно-коммунальных услуг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питальный ремонт, реконструкция водозаборных сооружений, котельных, тепловых с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конструкция автодорог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тимизация системы теплоснабжения котельной  в СОШ №3, приобретение и установка модульной котель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Скругленный прямоугольник 2"/>
          <p:cNvSpPr/>
          <p:nvPr/>
        </p:nvSpPr>
        <p:spPr>
          <a:xfrm>
            <a:off x="611280" y="333360"/>
            <a:ext cx="7993080" cy="136692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Обеспечение населения района качественными жилищно-коммунальными услугами в условиях развития рыночных отношений, создание условий для развития массового жилищного строительства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Овал 3"/>
          <p:cNvSpPr/>
          <p:nvPr/>
        </p:nvSpPr>
        <p:spPr>
          <a:xfrm>
            <a:off x="900000" y="333360"/>
            <a:ext cx="7775640" cy="597528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качества образования, соответствующего потребностям граждан и перспективным задачам развития экономики Абанского района посредством формирования социально-коммуникативных компетентностей для успешной социализации обучающихся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0" y="97524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395280" y="40464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вленная цель и предусматриваемое преобразование отрасли определяют основные направления деятельности по уровням и видам образования, которыми в предстоящие годы должны стать включённость в реализацию проектов федерального и регионального уровней, инициирование и осуществление собственных муниципальных проектов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468360" y="47628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оздание условий, в том числе культурно - досуговых, предполагающих наращивание духовно-нравственного потенциала жителей Абанского района, интеграция культурных практик района, создание своей идентичности в едином социально-экономическом и культурном пространстве  Красноярского края, поддержка многообразия культурной жизни и творческих инициатив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"/>
          <p:cNvSpPr/>
          <p:nvPr/>
        </p:nvSpPr>
        <p:spPr>
          <a:xfrm>
            <a:off x="0" y="-3728880"/>
            <a:ext cx="9144000" cy="120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2030 году планируется обеспечить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роительство новой Детской школы искусств (с открытием дополнительных предпрофессиональных общеобразовательных программ: «Живопись», «»Хоровое пение», «»Хореография»)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привлечение в детскую музыкальную школу молодых специалистов (5 чел.)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модульные клубы   п.Чигашет, д.Шивера., д.Мачино,с.Покатеево,д.Борзово, с.Вознесенка), а также будет построена современная районная библиотека, отвечающая всем современным требованиям времени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проведение капремонтов  зданий учреждений культуры (составит 90 % от потребности)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обеспеченность библиотек и музея компьютерной и копировальной техникой, программными продуктами, подключение к сети Интернет составит 100 %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пополнение библиотечного фонда новыми изданиями ежегодно в количестве не менее 1500 экземпляров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населения</a:t>
            </a:r>
            <a:endParaRPr b="0" lang="en-US" sz="32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40" name="Содержимое 3" descr=""/>
          <p:cNvPicPr/>
          <p:nvPr/>
        </p:nvPicPr>
        <p:blipFill>
          <a:blip r:embed="rId1"/>
          <a:stretch/>
        </p:blipFill>
        <p:spPr>
          <a:xfrm>
            <a:off x="722160" y="1595520"/>
            <a:ext cx="8069400" cy="4611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611280" y="476280"/>
            <a:ext cx="84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ежегодно в конкурсе на предоставление субсидии (гранта) на реализацию социокультурных проектов будут принимать не менее 10 учреждений культуры Абанского района (2020-2025гг); 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на базе учреждений культуры Абанского района будут реализованы  проекты и мероприятия, способствующие созданию уникального образа территории:  проект «Развитие культурного бренда Абанского района «Эко - здравница «Бирюсинские зори» как благоприятного места для развития сельского и  культурного туризма, проект «Создание условий для развития культурно – образовательных  маршрутов, эко-туров, туристических маршрутов на территориях природоохранной зоны озер Святого, Боровое (Плахино), Абанских озер», сохранение, использование и популяризация объектов культурного наследия (памятников истории и культуры), находящихся на территории Абанского района.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"/>
          <p:cNvSpPr/>
          <p:nvPr/>
        </p:nvSpPr>
        <p:spPr>
          <a:xfrm>
            <a:off x="0" y="62316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обровольчество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ссоциация студенческого спорта» 2.«Моя территория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Арт-парад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Ассоциация военно-патриотических клубов» и «Юнармия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ое движение школьников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ная деятельность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объединений по интересам при Молодежном центре: клубы любителей кино; любителей настольных игр; спортивные объединения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я территор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2"/>
          <p:cNvSpPr/>
          <p:nvPr/>
        </p:nvSpPr>
        <p:spPr>
          <a:xfrm>
            <a:off x="611280" y="260280"/>
            <a:ext cx="7993080" cy="1728720"/>
          </a:xfrm>
          <a:prstGeom prst="roundRect">
            <a:avLst>
              <a:gd name="adj" fmla="val 16667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здание условий для участия молодежи в социально-экономической, политической и культурной жизни обществ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1"/>
          <p:cNvSpPr/>
          <p:nvPr/>
        </p:nvSpPr>
        <p:spPr>
          <a:xfrm>
            <a:off x="539640" y="119700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лучшение   качества жизни жителей района через привлечение и участие их в регулярных, доступных, качественных  занятиях физической культурой, спортом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"/>
          <p:cNvSpPr/>
          <p:nvPr/>
        </p:nvSpPr>
        <p:spPr>
          <a:xfrm>
            <a:off x="395280" y="402480"/>
            <a:ext cx="8424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оритеты развития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4"/>
          <p:cNvSpPr/>
          <p:nvPr/>
        </p:nvSpPr>
        <p:spPr>
          <a:xfrm>
            <a:off x="3132000" y="1125360"/>
            <a:ext cx="3726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.Организация спортивных занятий для населения в вечернее время, в выходные дн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5"/>
          <p:cNvSpPr/>
          <p:nvPr/>
        </p:nvSpPr>
        <p:spPr>
          <a:xfrm>
            <a:off x="324000" y="2276640"/>
            <a:ext cx="2808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3.Организация учебно-тренировочного процесс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6"/>
          <p:cNvSpPr/>
          <p:nvPr/>
        </p:nvSpPr>
        <p:spPr>
          <a:xfrm>
            <a:off x="3708360" y="2276640"/>
            <a:ext cx="3149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4. Работа федераций по разным видам спорт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7"/>
          <p:cNvSpPr/>
          <p:nvPr/>
        </p:nvSpPr>
        <p:spPr>
          <a:xfrm>
            <a:off x="395280" y="3284640"/>
            <a:ext cx="646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5.Организация физического воспитания в образовательных учреждениях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8"/>
          <p:cNvSpPr/>
          <p:nvPr/>
        </p:nvSpPr>
        <p:spPr>
          <a:xfrm>
            <a:off x="468360" y="1052640"/>
            <a:ext cx="251928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1.Развитие клубной спортивной работ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9"/>
          <p:cNvSpPr/>
          <p:nvPr/>
        </p:nvSpPr>
        <p:spPr>
          <a:xfrm>
            <a:off x="324000" y="4076640"/>
            <a:ext cx="338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6. Организация физкультурно- массовой и спортивной работ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0"/>
          <p:cNvSpPr/>
          <p:nvPr/>
        </p:nvSpPr>
        <p:spPr>
          <a:xfrm>
            <a:off x="4764240" y="4076640"/>
            <a:ext cx="4176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7. Развитие спартакиадного движени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1"/>
          <p:cNvSpPr/>
          <p:nvPr/>
        </p:nvSpPr>
        <p:spPr>
          <a:xfrm>
            <a:off x="324000" y="4869000"/>
            <a:ext cx="2879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8. Участие в краевых спортивных проектах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2"/>
          <p:cNvSpPr/>
          <p:nvPr/>
        </p:nvSpPr>
        <p:spPr>
          <a:xfrm>
            <a:off x="3564000" y="4797360"/>
            <a:ext cx="4895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9. Работа спортивных советов на территориях сельсовето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3"/>
          <p:cNvSpPr/>
          <p:nvPr/>
        </p:nvSpPr>
        <p:spPr>
          <a:xfrm>
            <a:off x="250920" y="5661000"/>
            <a:ext cx="36734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10. Развитие адаптивного спорт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14"/>
          <p:cNvSpPr/>
          <p:nvPr/>
        </p:nvSpPr>
        <p:spPr>
          <a:xfrm>
            <a:off x="4500720" y="5589720"/>
            <a:ext cx="43192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11. Развитие Всероссийского физкультурно-спортивного комплекса «ГТО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395280" y="335160"/>
            <a:ext cx="820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2030 году планируется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открытого Стадиона  (п. Абан)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хоккейных  коробок (п. Почет, с. Долгий Мост, с. Березовка, с. Самойловка, с. Хандальск)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спортивной площадки для игровых видов спорта в Парке «Горка»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стройство спортивных площадок при школах, детских садах в соответствии с современными требованиями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рудование  уличных спортивных площадок на территориях сельсоветов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"/>
          <p:cNvSpPr/>
          <p:nvPr/>
        </p:nvSpPr>
        <p:spPr>
          <a:xfrm>
            <a:off x="0" y="1241280"/>
            <a:ext cx="914400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ыми направлениями реализации цели социальной защиты населения района в период до 2030 года будут являться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системы социальной поддержки граждан с учетом применения критерия адресности;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доступной среды для инвалидов и других маломобильных групп населения;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орм и методов социальной реабилитации граждан пожилого возраста и инвалидов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2030 года планируется достичь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дельный вес граждан, получающих меры социальной поддержки адресно ( с учетом доходности) в общей численности граждан, имеющих на них право 47,4% (46,73% в 2017 году.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4"/>
          <p:cNvSpPr/>
          <p:nvPr/>
        </p:nvSpPr>
        <p:spPr>
          <a:xfrm>
            <a:off x="250920" y="260280"/>
            <a:ext cx="8424720" cy="129708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Повышение уровня качества жизни социально-незащищенных категорий, населения, степени их защищенност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826920" y="115920"/>
            <a:ext cx="7993080" cy="58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, способствующих обеспечению доступности и качества оказания медицинской помощи населению, а также соблюдению прав граждан в сфере охраны здоровья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ая цель в сфере здравоохранения - увеличение продолжительности жизни населения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направлениями деятельности в предстоящие годы должны стать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эффективной системы профилактики заболевани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ое обеспечение системы здравоохранения и преодоление дефицита медицинских кадров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системы оказания медицинской помощ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форматизации в здравоохранен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ие телемедийных  технологи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1"/>
          <p:cNvSpPr/>
          <p:nvPr/>
        </p:nvSpPr>
        <p:spPr>
          <a:xfrm>
            <a:off x="468360" y="115920"/>
            <a:ext cx="8351640" cy="6462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 2030 году планируется: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обретение передвижного мобильного комплекса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ка модульных ФАПов - 7  (Алексеевка, Лазарево, Мачино, Стерлитармак, Покровка, Зимник, Хиндичет)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обретение оборудования: аппарат  искусственной вентиляции лёгких, биохимический  анализатор, 3 электрокардиографа, спирограф, рентгеноаппарат; приобретение автомобилей Скорой помощи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итальный ремонт учреждений здравоохранения - реконструкция санузла для маломобильных групп населения,  капитальный ремонт отдела запаса, замена окон в детском отделении, в детской консультации, в поликлинике, замена окон и крыши в гараже, капитальный ремонт ФАПов: Борзово, Успенка,  Пея, Заозёрка;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пищеблока и административного корпуса.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"/>
          <p:cNvSpPr/>
          <p:nvPr/>
        </p:nvSpPr>
        <p:spPr>
          <a:xfrm>
            <a:off x="0" y="81720"/>
            <a:ext cx="90360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охраны окружающей среды, экологической и радиационной безопасности населения Абанского района, безопасности гидротехнических сооружений и сохранение биологического разнообразия на территории Абанского района.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2030 г. будет запланировано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очистных сооружений полной биологической очистки, с механическим обезвоживанием осадка и системой обеззараживания сточных вод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мусороперерабатывающих станций мощностью 1,5 тыс. т/год (с. Долгий Мост), мощностью 1,0 тыс. т/год п. Почет;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межмуниципального  полигона мощностью 11,5 тыс. т/год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комплекса по сортировке ТКО в п. Абан мощностью 19 тыс. т/год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ультивация несанкционированной свалки северо-восточнее п. Абан, 500м. площадь 8,6 га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стройство контейнерных площадок временного накопления ТКО и приобретение контейнерного оборудования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0" y="1097280"/>
            <a:ext cx="9144000" cy="94716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рынка труда и обеспечение занятости населения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08000" y="2083320"/>
            <a:ext cx="87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ориентационная работа среди молодежи, участие в программах трудовой мобильности, программе кадрового обеспече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новых информационных технологий и обеспечение доступности информационных ресурсов в сфере занятости населения и трудовых отношени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ие в программе трудовой  мобильности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я временной занятости и общественных работ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2736720" cy="51850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населени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1.2008г. – 24997 чел.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1.2018г. – 19951 чел.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безработицы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1.2008г. -5,0%                                        01.01.2018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,3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1" descr=""/>
          <p:cNvPicPr/>
          <p:nvPr/>
        </p:nvPicPr>
        <p:blipFill>
          <a:blip r:embed="rId1"/>
          <a:srcRect l="0" t="1809" r="0" b="1809"/>
          <a:stretch/>
        </p:blipFill>
        <p:spPr>
          <a:xfrm>
            <a:off x="3203640" y="765000"/>
            <a:ext cx="5761080" cy="52563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43" name="Скругленный прямоугольник 4"/>
          <p:cNvSpPr/>
          <p:nvPr/>
        </p:nvSpPr>
        <p:spPr>
          <a:xfrm>
            <a:off x="3276720" y="6093000"/>
            <a:ext cx="539892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района 951,114 тыс.га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Скругленный прямоугольник 1"/>
          <p:cNvSpPr/>
          <p:nvPr/>
        </p:nvSpPr>
        <p:spPr>
          <a:xfrm>
            <a:off x="395280" y="26028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экономического потенциала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2"/>
          <p:cNvSpPr/>
          <p:nvPr/>
        </p:nvSpPr>
        <p:spPr>
          <a:xfrm>
            <a:off x="324000" y="1700280"/>
            <a:ext cx="8496000" cy="26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Для достижения цели необходимо решить следующие задачи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Устойчивое развитие  сельскохозяйственного производства, обеспечивающего занятость сельского населения, увеличение валового объема производства, а также повышение конкурентоспособности сельскохозяйственной продукции на основе модернизации производств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Поддержка и развитие малого и среднего предпринимательства в Абанском районе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Комплексное развитие дорожного хозяйств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3"/>
          <p:cNvSpPr/>
          <p:nvPr/>
        </p:nvSpPr>
        <p:spPr>
          <a:xfrm>
            <a:off x="395280" y="4724280"/>
            <a:ext cx="8497800" cy="1944720"/>
          </a:xfrm>
          <a:prstGeom prst="roundRect">
            <a:avLst>
              <a:gd name="adj" fmla="val 16667"/>
            </a:avLst>
          </a:prstGeom>
          <a:solidFill>
            <a:srgbClr val="5ee0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жидаемые результаты достижения  цели: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.Обеспечение стабильной работы предприятий традиционных для территории района отраслей промышленности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.Развитие и обеспечение устойчивого роста сельскохозяйственного производства с увеличением объемов переработки продукции, в том числе за счет поддержки малых форм хозяйствования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3. Эффективное использование механизмов создания благоприятной бизнес-среды, в том числе в сфере малого и среднего предпринимательства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0" y="17640"/>
            <a:ext cx="9144000" cy="6129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ое развитие сельскохозяйственного производства, обеспечивающего занятость сельского населения, увеличение валового объема производства, а так же повышение конкурентоспособности сельскохозяйственной продукции, на основе модернизации сельскохозяйственного производств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отдельный секторов АПК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тениеводстве: сохранение и увеличение валового производства  сельскохозяйственных культур за счет увеличение урожайности и посевных площадей, техническое перевооружение, путем ускоренного внедрения    энергосберегающей техники и строительства новых объектов складского хозяйства, внедрение региональной системы земледелия, создание перерабатывающих производств на базе малых предприятий;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животноводстве: рос поголовья сельскохозяйственных животных, повышение продуктивности в отрасли, за счет развития устойчивой кормовой базы, селекционных работ, воспроизводства стада, строительство новых объектов животноводства, реконструкция и модернизация действующих объектов животноводства.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малых форм хозяйствовани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новых направлений в отрасли сельского хозяйств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1"/>
          <p:cNvSpPr/>
          <p:nvPr/>
        </p:nvSpPr>
        <p:spPr>
          <a:xfrm>
            <a:off x="539640" y="260280"/>
            <a:ext cx="8209080" cy="865080"/>
          </a:xfrm>
          <a:prstGeom prst="roundRect">
            <a:avLst>
              <a:gd name="adj" fmla="val 16667"/>
            </a:avLst>
          </a:prstGeom>
          <a:solidFill>
            <a:srgbClr val="0c04ac"/>
          </a:soli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«Точки роста», обеспечивающие развитие Абанского района, ( в том числе значимые социальные проекты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611280" y="1268280"/>
            <a:ext cx="8281800" cy="52293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341360"/>
          <a:ext cx="8712000" cy="5195880"/>
        </p:xfrm>
        <a:graphic>
          <a:graphicData uri="http://schemas.openxmlformats.org/drawingml/2006/table">
            <a:tbl>
              <a:tblPr/>
              <a:tblGrid>
                <a:gridCol w="512640"/>
                <a:gridCol w="8199360"/>
              </a:tblGrid>
              <a:tr h="59364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ек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64296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х по переработке молок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«Мана 2020-2024г.г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0812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льное отделение на 120 скотомест, коровника на 300 голов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«Мана»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96372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х по производству полуфабрикатов на базе убойного, уже введенного в эксплуатацию.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«Мана» 2019г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67464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оводческий комплекс на 1000 гол. КРС, ООО «Мана» 2019 г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96660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оводческий комплекс на 600 гол КРС, ИП Глава К(Ф)Х Сапрыкина Татьяна Георгиевна, 2019-2020г.г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64620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ный минизавод по переработке молока ИП Глава К(Ф)Х Вейхлей С.А. 2025г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0" y="25092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правления поддержки малого предпринимательства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 консультационно-информационная поддержка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имущественная поддержка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финансовая поддержка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2"/>
          <p:cNvSpPr/>
          <p:nvPr/>
        </p:nvSpPr>
        <p:spPr>
          <a:xfrm>
            <a:off x="611280" y="189000"/>
            <a:ext cx="8137440" cy="1511280"/>
          </a:xfrm>
          <a:prstGeom prst="ellipse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Поддержка и развитие малого и среднего предпринимательства в Абанском районе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0" y="-850680"/>
            <a:ext cx="9144000" cy="82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асти развития автомобильного транспорта и дорожного хозяйства с учетом существующих проблем основными направлениями являются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дорожной инфраструктуры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монт и содержание внутрипоселенческих автомобильных дорог;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ведение мероприятий, предупреждающих дорожно-транспортные происшествия на сети дорог местного значения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ое и доступное  обеспечение потребности населения Абанского района в пассажирских перевозках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кругленный прямоугольник 2"/>
          <p:cNvSpPr/>
          <p:nvPr/>
        </p:nvSpPr>
        <p:spPr>
          <a:xfrm>
            <a:off x="611280" y="404640"/>
            <a:ext cx="7632720" cy="136872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ксное развитие дорожного хозяйства Абанского район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36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0" y="1541880"/>
            <a:ext cx="9144000" cy="3080160"/>
          </a:xfrm>
          <a:prstGeom prst="rect">
            <a:avLst/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2030 году планируется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остроить 17 км. улично-дорожной сети для новых проектируемых жилых образований МКР «Южный»(2025- 2030г.)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Заасфальтировать 177,2 км гравийных дорог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Отремонтировать 67,9 км. с асфальтобетонным покрытием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36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05920" cy="720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эффективности управления ресурса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Схема 3" descr=""/>
          <p:cNvPicPr/>
          <p:nvPr/>
        </p:nvPicPr>
        <p:blipFill>
          <a:blip r:embed="rId1"/>
          <a:stretch/>
        </p:blipFill>
        <p:spPr>
          <a:xfrm>
            <a:off x="231840" y="1163520"/>
            <a:ext cx="8820000" cy="359100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4"/>
          <p:cNvSpPr/>
          <p:nvPr/>
        </p:nvSpPr>
        <p:spPr>
          <a:xfrm>
            <a:off x="250920" y="4941720"/>
            <a:ext cx="8713800" cy="1849680"/>
          </a:xfrm>
          <a:prstGeom prst="rect">
            <a:avLst/>
          </a:prstGeom>
          <a:solidFill>
            <a:srgbClr val="66ff99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й результат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Увеличение объема налоговых доходов местного бюджет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Увеличение доходов от использования, продажи муниципального имущества и земельных участков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Обеспечение информационной открытости власти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Совершенствование бюджетного планирования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6"/>
          <p:cNvSpPr/>
          <p:nvPr/>
        </p:nvSpPr>
        <p:spPr>
          <a:xfrm>
            <a:off x="250920" y="260280"/>
            <a:ext cx="8246880" cy="752400"/>
          </a:xfrm>
          <a:prstGeom prst="rect">
            <a:avLst/>
          </a:prstGeom>
          <a:solidFill>
            <a:srgbClr val="0171c3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10"/>
          <p:cNvSpPr/>
          <p:nvPr/>
        </p:nvSpPr>
        <p:spPr>
          <a:xfrm>
            <a:off x="108000" y="1557360"/>
            <a:ext cx="2879640" cy="9349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 населения в 2030 году останется на уровне 2018 год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Скругленный прямоугольник 11"/>
          <p:cNvGrpSpPr/>
          <p:nvPr/>
        </p:nvGrpSpPr>
        <p:grpSpPr>
          <a:xfrm>
            <a:off x="3365640" y="2511360"/>
            <a:ext cx="2492280" cy="2401920"/>
            <a:chOff x="3365640" y="2511360"/>
            <a:chExt cx="2492280" cy="2401920"/>
          </a:xfrm>
        </p:grpSpPr>
        <p:pic>
          <p:nvPicPr>
            <p:cNvPr id="329" name="Скругленный 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3365640" y="2511360"/>
              <a:ext cx="249228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597120" y="2741760"/>
              <a:ext cx="202572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Целевые ориентиры социально-экономического развития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578800" cy="795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ерспективы разви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6"/>
          <p:cNvSpPr/>
          <p:nvPr/>
        </p:nvSpPr>
        <p:spPr>
          <a:xfrm>
            <a:off x="3657600" y="655308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5419-B506-487B-89B4-3467EC4B61DB}" type="slidenum">
              <a:rPr b="1" i="1" lang="en-US" sz="12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Скругленный прямоугольник 12"/>
          <p:cNvGrpSpPr/>
          <p:nvPr/>
        </p:nvGrpSpPr>
        <p:grpSpPr>
          <a:xfrm>
            <a:off x="49320" y="2577960"/>
            <a:ext cx="3065400" cy="1555920"/>
            <a:chOff x="49320" y="2577960"/>
            <a:chExt cx="3065400" cy="1555920"/>
          </a:xfrm>
        </p:grpSpPr>
        <p:pic>
          <p:nvPicPr>
            <p:cNvPr id="334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49320" y="2577960"/>
              <a:ext cx="306540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43000" y="2771640"/>
              <a:ext cx="268128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т реально начисленной заработной платы к 2030 году в 1,2 раза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Скругленный прямоугольник 13"/>
          <p:cNvGrpSpPr/>
          <p:nvPr/>
        </p:nvGrpSpPr>
        <p:grpSpPr>
          <a:xfrm>
            <a:off x="5956200" y="1500120"/>
            <a:ext cx="3138480" cy="1266840"/>
            <a:chOff x="5956200" y="1500120"/>
            <a:chExt cx="3138480" cy="1266840"/>
          </a:xfrm>
        </p:grpSpPr>
        <p:pic>
          <p:nvPicPr>
            <p:cNvPr id="337" name="Скругленный 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5956200" y="1500120"/>
              <a:ext cx="313848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134040" y="1677960"/>
              <a:ext cx="27813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т объемов производства продукции сельского хозяйства в хозяйствах всех категорий в сопоставимых ценах на 108,2%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Скругленный прямоугольник 14"/>
          <p:cNvGrpSpPr/>
          <p:nvPr/>
        </p:nvGrpSpPr>
        <p:grpSpPr>
          <a:xfrm>
            <a:off x="3144960" y="1000080"/>
            <a:ext cx="2921040" cy="974880"/>
            <a:chOff x="3144960" y="1000080"/>
            <a:chExt cx="2921040" cy="974880"/>
          </a:xfrm>
        </p:grpSpPr>
        <p:pic>
          <p:nvPicPr>
            <p:cNvPr id="340" name="Скругленный 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3144960" y="1000080"/>
              <a:ext cx="292104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3311640" y="1160640"/>
              <a:ext cx="25938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нижение уровня безработицы с 2,3% до 1,9% в 2030 году.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Рисунок 20" descr="Герб Абан"/>
          <p:cNvPicPr/>
          <p:nvPr/>
        </p:nvPicPr>
        <p:blipFill>
          <a:blip r:embed="rId5"/>
          <a:stretch/>
        </p:blipFill>
        <p:spPr>
          <a:xfrm>
            <a:off x="250920" y="333360"/>
            <a:ext cx="504720" cy="647640"/>
          </a:xfrm>
          <a:prstGeom prst="rect">
            <a:avLst/>
          </a:prstGeom>
          <a:ln w="0">
            <a:noFill/>
          </a:ln>
        </p:spPr>
      </p:pic>
      <p:sp>
        <p:nvSpPr>
          <p:cNvPr id="343" name="Скругленный прямоугольник 17"/>
          <p:cNvSpPr/>
          <p:nvPr/>
        </p:nvSpPr>
        <p:spPr>
          <a:xfrm>
            <a:off x="250920" y="4149720"/>
            <a:ext cx="2881080" cy="11509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числа СМП на 10000 жителей с 206 ед. до 255 ед. к  2030г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18"/>
          <p:cNvSpPr/>
          <p:nvPr/>
        </p:nvSpPr>
        <p:spPr>
          <a:xfrm>
            <a:off x="1692360" y="5732640"/>
            <a:ext cx="5688000" cy="100944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к 2030 году жилищного фонда, оборудованного водопроводом  с 30% в 2017 году  до 60%, отоплением с 5,6% в 2017 году  до 7,5% в 2030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кругленный прямоугольник 21"/>
          <p:cNvSpPr/>
          <p:nvPr/>
        </p:nvSpPr>
        <p:spPr>
          <a:xfrm>
            <a:off x="6227640" y="2924280"/>
            <a:ext cx="2737080" cy="144144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ение посевных площадей с 48845 га до 58845 га. Увеличение поголовья КРС на 78%, свиней на 46%, овец на 53%, лошадей в 2,7 раза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кругленный прямоугольник 22"/>
          <p:cNvSpPr/>
          <p:nvPr/>
        </p:nvSpPr>
        <p:spPr>
          <a:xfrm>
            <a:off x="6227640" y="4437000"/>
            <a:ext cx="2571840" cy="1152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доли детей от 1 до 6 лет, получающих дошкольную образовательную услугу с 91 до 97%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ашивка 23"/>
          <p:cNvSpPr/>
          <p:nvPr/>
        </p:nvSpPr>
        <p:spPr>
          <a:xfrm rot="16200000">
            <a:off x="4201920" y="1998360"/>
            <a:ext cx="792360" cy="484200"/>
          </a:xfrm>
          <a:custGeom>
            <a:avLst/>
            <a:gdLst>
              <a:gd name="textAreaLeft" fmla="*/ 0 w 792360"/>
              <a:gd name="textAreaRight" fmla="*/ 792720 w 7923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99" y="0"/>
                </a:lnTo>
                <a:lnTo>
                  <a:pt x="21600" y="10800"/>
                </a:lnTo>
                <a:lnTo>
                  <a:pt x="14999" y="21600"/>
                </a:lnTo>
                <a:lnTo>
                  <a:pt x="0" y="21600"/>
                </a:lnTo>
                <a:lnTo>
                  <a:pt x="6601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ашивка 24"/>
          <p:cNvSpPr/>
          <p:nvPr/>
        </p:nvSpPr>
        <p:spPr>
          <a:xfrm rot="5400000">
            <a:off x="4202280" y="5022000"/>
            <a:ext cx="935280" cy="485640"/>
          </a:xfrm>
          <a:custGeom>
            <a:avLst/>
            <a:gdLst>
              <a:gd name="textAreaLeft" fmla="*/ 0 w 935280"/>
              <a:gd name="textAreaRight" fmla="*/ 935640 w 93528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89" y="0"/>
                </a:lnTo>
                <a:lnTo>
                  <a:pt x="21600" y="10800"/>
                </a:lnTo>
                <a:lnTo>
                  <a:pt x="15989" y="21600"/>
                </a:lnTo>
                <a:lnTo>
                  <a:pt x="0" y="21600"/>
                </a:lnTo>
                <a:lnTo>
                  <a:pt x="5611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Нашивка 25"/>
          <p:cNvSpPr/>
          <p:nvPr/>
        </p:nvSpPr>
        <p:spPr>
          <a:xfrm>
            <a:off x="5724360" y="3500280"/>
            <a:ext cx="484200" cy="4860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ашивка 26"/>
          <p:cNvSpPr/>
          <p:nvPr/>
        </p:nvSpPr>
        <p:spPr>
          <a:xfrm rot="10800000">
            <a:off x="2987280" y="328428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ашивка 27"/>
          <p:cNvSpPr/>
          <p:nvPr/>
        </p:nvSpPr>
        <p:spPr>
          <a:xfrm rot="13702200">
            <a:off x="2943000" y="2247480"/>
            <a:ext cx="795240" cy="484200"/>
          </a:xfrm>
          <a:custGeom>
            <a:avLst/>
            <a:gdLst>
              <a:gd name="textAreaLeft" fmla="*/ 0 w 795240"/>
              <a:gd name="textAreaRight" fmla="*/ 795600 w 79524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25" y="0"/>
                </a:lnTo>
                <a:lnTo>
                  <a:pt x="21600" y="10800"/>
                </a:lnTo>
                <a:lnTo>
                  <a:pt x="15025" y="21600"/>
                </a:lnTo>
                <a:lnTo>
                  <a:pt x="0" y="21600"/>
                </a:lnTo>
                <a:lnTo>
                  <a:pt x="6575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ашивка 28"/>
          <p:cNvSpPr/>
          <p:nvPr/>
        </p:nvSpPr>
        <p:spPr>
          <a:xfrm rot="8524800">
            <a:off x="3147480" y="4525200"/>
            <a:ext cx="486000" cy="484200"/>
          </a:xfrm>
          <a:custGeom>
            <a:avLst/>
            <a:gdLst>
              <a:gd name="textAreaLeft" fmla="*/ 0 w 486000"/>
              <a:gd name="textAreaRight" fmla="*/ 486360 w 4860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35" y="0"/>
                </a:lnTo>
                <a:lnTo>
                  <a:pt x="21600" y="10800"/>
                </a:lnTo>
                <a:lnTo>
                  <a:pt x="10835" y="21600"/>
                </a:lnTo>
                <a:lnTo>
                  <a:pt x="0" y="21600"/>
                </a:lnTo>
                <a:lnTo>
                  <a:pt x="10765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ашивка 29"/>
          <p:cNvSpPr/>
          <p:nvPr/>
        </p:nvSpPr>
        <p:spPr>
          <a:xfrm rot="2160000">
            <a:off x="5580000" y="4603320"/>
            <a:ext cx="674640" cy="486000"/>
          </a:xfrm>
          <a:custGeom>
            <a:avLst/>
            <a:gdLst>
              <a:gd name="textAreaLeft" fmla="*/ 0 w 674640"/>
              <a:gd name="textAreaRight" fmla="*/ 675000 w 674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24" y="0"/>
                </a:lnTo>
                <a:lnTo>
                  <a:pt x="21600" y="10800"/>
                </a:lnTo>
                <a:lnTo>
                  <a:pt x="13824" y="21600"/>
                </a:lnTo>
                <a:lnTo>
                  <a:pt x="0" y="21600"/>
                </a:lnTo>
                <a:lnTo>
                  <a:pt x="7776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ашивка 30"/>
          <p:cNvSpPr/>
          <p:nvPr/>
        </p:nvSpPr>
        <p:spPr>
          <a:xfrm rot="19410000">
            <a:off x="5605560" y="237348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28062008(00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3"/>
          <p:cNvSpPr/>
          <p:nvPr/>
        </p:nvSpPr>
        <p:spPr>
          <a:xfrm>
            <a:off x="4643280" y="18414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ba"/>
                </a:solidFill>
                <a:latin typeface="Arial"/>
              </a:rPr>
              <a:t>Спасибо за внимание</a:t>
            </a:r>
            <a:r>
              <a:rPr b="1" i="1" lang="en-US" sz="3600" spc="-1" strike="noStrike">
                <a:solidFill>
                  <a:srgbClr val="4636ba"/>
                </a:solidFill>
                <a:latin typeface="Arial"/>
              </a:rPr>
              <a:t> !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3d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Содержимое 4" descr=""/>
          <p:cNvPicPr/>
          <p:nvPr/>
        </p:nvPicPr>
        <p:blipFill>
          <a:blip r:embed="rId1"/>
          <a:stretch/>
        </p:blipFill>
        <p:spPr>
          <a:xfrm>
            <a:off x="403200" y="412920"/>
            <a:ext cx="8217000" cy="6141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0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Содержимое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115120" cy="6040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Содержимое 4" descr=""/>
          <p:cNvPicPr/>
          <p:nvPr/>
        </p:nvPicPr>
        <p:blipFill>
          <a:blip r:embed="rId1"/>
          <a:stretch/>
        </p:blipFill>
        <p:spPr>
          <a:xfrm>
            <a:off x="403200" y="412920"/>
            <a:ext cx="8217000" cy="6141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Содержимое 4" descr=""/>
          <p:cNvPicPr/>
          <p:nvPr/>
        </p:nvPicPr>
        <p:blipFill>
          <a:blip r:embed="rId1"/>
          <a:stretch/>
        </p:blipFill>
        <p:spPr>
          <a:xfrm>
            <a:off x="403200" y="412920"/>
            <a:ext cx="8217000" cy="6141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Содержимое 4" descr=""/>
          <p:cNvPicPr/>
          <p:nvPr/>
        </p:nvPicPr>
        <p:blipFill>
          <a:blip r:embed="rId1"/>
          <a:stretch/>
        </p:blipFill>
        <p:spPr>
          <a:xfrm>
            <a:off x="403200" y="412920"/>
            <a:ext cx="8217000" cy="6141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d0d0d"/>
                </a:solidFill>
                <a:latin typeface="Calibri"/>
              </a:rPr>
              <a:t>Миссия района 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136160" y="1214280"/>
            <a:ext cx="8007480" cy="37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74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анский район  - </a:t>
            </a: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конкурентоспособный, устойчиво-развитый муниципальный район, с современным, устойчиво развитым сельскохозяйственным производством, комфортной социальной сферой и инфраструктурой, привлекательной для жителей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4:32:21Z</dcterms:created>
  <dc:creator>Tux</dc:creator>
  <dc:description/>
  <dc:language>en-US</dc:language>
  <cp:lastModifiedBy>Admin</cp:lastModifiedBy>
  <dcterms:modified xsi:type="dcterms:W3CDTF">2019-02-20T03:21:46Z</dcterms:modified>
  <cp:revision>1196</cp:revision>
  <dc:subject/>
  <dc:title>Слайд 1</dc:title>
</cp:coreProperties>
</file>