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3.jpeg" ContentType="image/jpe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172-C130-4CBB-8DE3-E0D73D65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3FB-A751-4C0D-A6A9-DC021172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A1DD-BD9C-497C-9732-2F07AB92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84B2-D681-43F4-A95A-C494BAED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064E-3B30-44F6-B765-B829F8FF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267F-B0DD-48A1-AD60-05F9474A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2C78-FAE1-4327-97DA-6E1B0305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C754-74F4-4900-B7FD-A941AF9B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C1F7-7DDD-43FD-B7A5-78F6B795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098B-EDB9-48E3-8C7B-A077C3A4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EE2D-DEE7-4240-90E7-A2452DAB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064-14D1-4A57-87C6-6E5AF994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9CEF-93E5-4D35-874D-CAB1B86B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2C43-4183-4FBC-94A8-2068F06F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6CD8-9D57-4B79-909A-928C21AB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183D-D60E-4513-8DF2-34B7DA47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3EA9-43B2-4A1F-BA6B-023A92E8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16FD1-C032-4348-B032-A7149900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80F7E-ED46-45BF-80F8-251D0A79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7466D-87AE-4DDF-B1D4-6CB8E425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803C0-2496-42E3-B8F1-27809EF7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885D1-607E-40F7-BD9B-B1C1D42E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33C-5C45-4F54-8B3C-B3A97ADB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87C16-78B4-4944-B56B-250B5BE1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4490F-EF65-4735-9AED-9D0D0E0B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D981E-626D-44F7-83E7-148002F7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A0263-14C1-4797-9748-C2D3192B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A84B2-74AD-432F-A93C-1B2BC7FD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EC681-CAFB-481B-8F3D-B2E1705A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553D8-7D46-4D16-B9F1-4C13C033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53176-0DAA-4083-A2DB-868721C8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D1960-2AD8-4347-842E-1236AE2E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40C7D-44B4-4834-8B63-4E0ED510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B57-9271-4269-9FD6-65F12E39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FD615-9803-4A53-AD86-A014B0E9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3EB80-622B-44CF-A53B-9A8F83D5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57CF5-7DB2-4EDF-8011-72B4DCB9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6F11F-5131-4DA0-9865-A78856E7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94FAA-FB31-4B17-82CA-4341CB0C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E9EFF-9FAF-4AF3-9C6C-0934910F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09ADE-12B8-449C-836D-358C3F1A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8C832-5DAC-4E7F-A4D2-BE6477B3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7B710-5626-4F59-88E4-4C016C6C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43B7F-18CA-4DB2-B38C-CD5F027C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F3F-8C51-46F5-9B06-94888F22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C7E1A-9296-4DFF-82BF-5A55883F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CBE8F-3D22-44FD-AD14-AB406A1F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79679-D23D-4483-9A29-02E180A3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1A813-0855-4C52-B3E5-3C20D545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FB50E-A68B-41BE-9C57-A9B6B8D8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48804-2DA8-48BC-88E0-9475822F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6A248-70FC-4E3B-A3F5-C2BA41FF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70582-DF72-4C62-9B9B-CB9FA840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146D2-6810-4C11-9668-49072B22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D81AB-7086-4E8A-8D8E-DF40386C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5F6-8B54-40BD-B78D-C7934AA1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FA58E-DE9A-49D3-BCBF-D694EA80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8E33-4BDD-4EEC-8B07-1F3EC8ED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B67-2BBD-4B36-BF21-96CC0FB3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F22-0EE3-41C2-8996-0A02C62C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58CB-95B2-4DE1-A78B-E71196980C35}" type="slidenum">
              <a:rPr b="0" lang="ru-RU" sz="1200" spc="-1" strike="noStrike">
                <a:solidFill>
                  <a:srgbClr val="a93c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BC37-98F8-487F-AAA7-65C1440347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0EA8-0E5A-4244-830F-17275D00198C}" type="slidenum">
              <a:rPr b="0" lang="ru-RU" sz="1200" spc="-1" strike="noStrike">
                <a:solidFill>
                  <a:srgbClr val="e9dce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EC81-80DA-4C0B-AE4B-F64F476967E6}" type="slidenum">
              <a:rPr b="0" lang="ru-RU" sz="1200" spc="-1" strike="noStrike">
                <a:solidFill>
                  <a:srgbClr val="e9dce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8165-9A8B-4DFC-95DF-1177D237BC47}" type="slidenum">
              <a:rPr b="0" lang="ru-RU" sz="1200" spc="-1" strike="noStrike">
                <a:solidFill>
                  <a:srgbClr val="a93c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9" descr="PA210011"/>
          <p:cNvPicPr/>
          <p:nvPr/>
        </p:nvPicPr>
        <p:blipFill>
          <a:blip r:embed="rId1"/>
          <a:stretch/>
        </p:blipFill>
        <p:spPr>
          <a:xfrm>
            <a:off x="252360" y="189000"/>
            <a:ext cx="8639280" cy="6480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1268280"/>
            <a:ext cx="754524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я  социально-экономического развит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анского райо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2030 года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4" descr="Герб Абан"/>
          <p:cNvPicPr/>
          <p:nvPr/>
        </p:nvPicPr>
        <p:blipFill>
          <a:blip r:embed="rId2"/>
          <a:stretch/>
        </p:blipFill>
        <p:spPr>
          <a:xfrm>
            <a:off x="4356000" y="476280"/>
            <a:ext cx="576360" cy="782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Calibri"/>
              </a:rPr>
              <a:t>Стратегическая цель</a:t>
            </a:r>
            <a:r>
              <a:rPr b="0" lang="ru-RU" sz="5000" spc="-1" strike="noStrike">
                <a:solidFill>
                  <a:srgbClr val="b13f9a"/>
                </a:solidFill>
                <a:latin typeface="Calibri"/>
              </a:rPr>
              <a:t>: 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844280"/>
            <a:ext cx="8229600" cy="4753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вышении уровня и качества жизни населения на основе инновационной модернизации аграрного комплекса, развития социальной сферы, инженерной и транспортной инфраструктуры, формирования благоприятного инвестиционного климата и среды проживания, на основе создания эффективной системы муниципального управл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109440" y="701640"/>
            <a:ext cx="875340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5"/>
          <p:cNvSpPr/>
          <p:nvPr/>
        </p:nvSpPr>
        <p:spPr>
          <a:xfrm>
            <a:off x="539640" y="3573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Схема 9" descr=""/>
          <p:cNvPicPr/>
          <p:nvPr/>
        </p:nvPicPr>
        <p:blipFill>
          <a:blip r:embed="rId2"/>
          <a:stretch/>
        </p:blipFill>
        <p:spPr>
          <a:xfrm>
            <a:off x="304920" y="2262240"/>
            <a:ext cx="8858160" cy="3205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Скругленный прямоугольник 1"/>
          <p:cNvGrpSpPr/>
          <p:nvPr/>
        </p:nvGrpSpPr>
        <p:grpSpPr>
          <a:xfrm>
            <a:off x="291960" y="304920"/>
            <a:ext cx="8553600" cy="847440"/>
            <a:chOff x="291960" y="304920"/>
            <a:chExt cx="8553600" cy="847440"/>
          </a:xfrm>
        </p:grpSpPr>
        <p:pic>
          <p:nvPicPr>
            <p:cNvPr id="257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91960" y="304920"/>
              <a:ext cx="855360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361800" y="371520"/>
              <a:ext cx="84204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звитие человеческого капитала</a:t>
              </a: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Скругленный прямоугольник 5"/>
          <p:cNvSpPr/>
          <p:nvPr/>
        </p:nvSpPr>
        <p:spPr>
          <a:xfrm>
            <a:off x="395280" y="1341360"/>
            <a:ext cx="2521080" cy="64764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е жилищных условий и качества жизн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6"/>
          <p:cNvSpPr/>
          <p:nvPr/>
        </p:nvSpPr>
        <p:spPr>
          <a:xfrm>
            <a:off x="3203640" y="155736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населения района качественными жилищно-коммунальными услугам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7"/>
          <p:cNvSpPr/>
          <p:nvPr/>
        </p:nvSpPr>
        <p:spPr>
          <a:xfrm>
            <a:off x="6012000" y="1268280"/>
            <a:ext cx="2736720" cy="57636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качественным образованием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8"/>
          <p:cNvSpPr/>
          <p:nvPr/>
        </p:nvSpPr>
        <p:spPr>
          <a:xfrm>
            <a:off x="250920" y="2205000"/>
            <a:ext cx="2305080" cy="1295280"/>
          </a:xfrm>
          <a:prstGeom prst="roundRect">
            <a:avLst>
              <a:gd name="adj" fmla="val 16667"/>
            </a:avLst>
          </a:prstGeom>
          <a:solidFill>
            <a:srgbClr val="21ff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качества жизни  и социально-незащищенных категорий населения и степени их защищенност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9"/>
          <p:cNvSpPr/>
          <p:nvPr/>
        </p:nvSpPr>
        <p:spPr>
          <a:xfrm>
            <a:off x="2771640" y="5516640"/>
            <a:ext cx="3313080" cy="105876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 качественных культурно-досуговых услуг, поддержка многообразия культурной жизни района и творческих инициатив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10"/>
          <p:cNvSpPr/>
          <p:nvPr/>
        </p:nvSpPr>
        <p:spPr>
          <a:xfrm>
            <a:off x="324000" y="5229360"/>
            <a:ext cx="2232000" cy="143964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молодежи в социально-экономической, политической и культурной жизни обществ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11"/>
          <p:cNvSpPr/>
          <p:nvPr/>
        </p:nvSpPr>
        <p:spPr>
          <a:xfrm>
            <a:off x="6300720" y="4076640"/>
            <a:ext cx="2519280" cy="108108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охраны окружающей среды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13"/>
          <p:cNvSpPr/>
          <p:nvPr/>
        </p:nvSpPr>
        <p:spPr>
          <a:xfrm>
            <a:off x="3059280" y="2997360"/>
            <a:ext cx="2376360" cy="230328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38160">
            <a:solidFill>
              <a:srgbClr val="0c04a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ля достижения поставленной цели необходимо решить следующие задачи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ашивка 15"/>
          <p:cNvSpPr/>
          <p:nvPr/>
        </p:nvSpPr>
        <p:spPr>
          <a:xfrm rot="16200000">
            <a:off x="4066920" y="2492280"/>
            <a:ext cx="486000" cy="485640"/>
          </a:xfrm>
          <a:custGeom>
            <a:avLst/>
            <a:gdLst>
              <a:gd name="textAreaLeft" fmla="*/ 0 w 486000"/>
              <a:gd name="textAreaRight" fmla="*/ 486360 w 4860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c04a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Нашивка 16"/>
          <p:cNvSpPr/>
          <p:nvPr/>
        </p:nvSpPr>
        <p:spPr>
          <a:xfrm rot="13456800">
            <a:off x="2871720" y="2809080"/>
            <a:ext cx="486000" cy="484200"/>
          </a:xfrm>
          <a:custGeom>
            <a:avLst/>
            <a:gdLst>
              <a:gd name="textAreaLeft" fmla="*/ 0 w 486000"/>
              <a:gd name="textAreaRight" fmla="*/ 486360 w 4860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35" y="0"/>
                </a:lnTo>
                <a:lnTo>
                  <a:pt x="21600" y="10800"/>
                </a:lnTo>
                <a:lnTo>
                  <a:pt x="10835" y="21600"/>
                </a:lnTo>
                <a:lnTo>
                  <a:pt x="0" y="21600"/>
                </a:lnTo>
                <a:lnTo>
                  <a:pt x="10765" y="10800"/>
                </a:lnTo>
                <a:close/>
              </a:path>
            </a:pathLst>
          </a:custGeom>
          <a:solidFill>
            <a:srgbClr val="1418b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ашивка 17"/>
          <p:cNvSpPr/>
          <p:nvPr/>
        </p:nvSpPr>
        <p:spPr>
          <a:xfrm rot="10800000">
            <a:off x="2577960" y="3739680"/>
            <a:ext cx="486000" cy="484200"/>
          </a:xfrm>
          <a:custGeom>
            <a:avLst/>
            <a:gdLst>
              <a:gd name="textAreaLeft" fmla="*/ 0 w 486000"/>
              <a:gd name="textAreaRight" fmla="*/ 486360 w 4860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35" y="0"/>
                </a:lnTo>
                <a:lnTo>
                  <a:pt x="21600" y="10800"/>
                </a:lnTo>
                <a:lnTo>
                  <a:pt x="10835" y="21600"/>
                </a:lnTo>
                <a:lnTo>
                  <a:pt x="0" y="21600"/>
                </a:lnTo>
                <a:lnTo>
                  <a:pt x="10765" y="10800"/>
                </a:lnTo>
                <a:close/>
              </a:path>
            </a:pathLst>
          </a:custGeom>
          <a:solidFill>
            <a:srgbClr val="1418b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Нашивка 18"/>
          <p:cNvSpPr/>
          <p:nvPr/>
        </p:nvSpPr>
        <p:spPr>
          <a:xfrm rot="8012400">
            <a:off x="3006720" y="4959720"/>
            <a:ext cx="484200" cy="485640"/>
          </a:xfrm>
          <a:custGeom>
            <a:avLst/>
            <a:gdLst>
              <a:gd name="textAreaLeft" fmla="*/ 0 w 484200"/>
              <a:gd name="textAreaRight" fmla="*/ 484560 w 4842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c04a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Нашивка 19"/>
          <p:cNvSpPr/>
          <p:nvPr/>
        </p:nvSpPr>
        <p:spPr>
          <a:xfrm rot="19323000">
            <a:off x="5244840" y="2950920"/>
            <a:ext cx="485640" cy="484200"/>
          </a:xfrm>
          <a:custGeom>
            <a:avLst/>
            <a:gdLst>
              <a:gd name="textAreaLeft" fmla="*/ 0 w 485640"/>
              <a:gd name="textAreaRight" fmla="*/ 486000 w 48564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35" y="0"/>
                </a:lnTo>
                <a:lnTo>
                  <a:pt x="21600" y="10800"/>
                </a:lnTo>
                <a:lnTo>
                  <a:pt x="10835" y="21600"/>
                </a:lnTo>
                <a:lnTo>
                  <a:pt x="0" y="21600"/>
                </a:lnTo>
                <a:lnTo>
                  <a:pt x="10765" y="10800"/>
                </a:lnTo>
                <a:close/>
              </a:path>
            </a:pathLst>
          </a:custGeom>
          <a:solidFill>
            <a:srgbClr val="1418b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ашивка 20"/>
          <p:cNvSpPr/>
          <p:nvPr/>
        </p:nvSpPr>
        <p:spPr>
          <a:xfrm>
            <a:off x="5508720" y="3860640"/>
            <a:ext cx="484200" cy="4842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c04a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ашивка 21"/>
          <p:cNvSpPr/>
          <p:nvPr/>
        </p:nvSpPr>
        <p:spPr>
          <a:xfrm rot="2673600">
            <a:off x="5103720" y="4897440"/>
            <a:ext cx="486000" cy="484200"/>
          </a:xfrm>
          <a:custGeom>
            <a:avLst/>
            <a:gdLst>
              <a:gd name="textAreaLeft" fmla="*/ 0 w 486000"/>
              <a:gd name="textAreaRight" fmla="*/ 486360 w 4860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35" y="0"/>
                </a:lnTo>
                <a:lnTo>
                  <a:pt x="21600" y="10800"/>
                </a:lnTo>
                <a:lnTo>
                  <a:pt x="10835" y="21600"/>
                </a:lnTo>
                <a:lnTo>
                  <a:pt x="0" y="21600"/>
                </a:lnTo>
                <a:lnTo>
                  <a:pt x="10765" y="10800"/>
                </a:lnTo>
                <a:close/>
              </a:path>
            </a:pathLst>
          </a:custGeom>
          <a:solidFill>
            <a:srgbClr val="1418b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23"/>
          <p:cNvSpPr/>
          <p:nvPr/>
        </p:nvSpPr>
        <p:spPr>
          <a:xfrm>
            <a:off x="6156360" y="2133720"/>
            <a:ext cx="2592360" cy="1295280"/>
          </a:xfrm>
          <a:prstGeom prst="roundRect">
            <a:avLst>
              <a:gd name="adj" fmla="val 16667"/>
            </a:avLst>
          </a:prstGeom>
          <a:solidFill>
            <a:srgbClr val="21ff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е качества жизни жителей через участие в занятиях физической культурой и спортом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24"/>
          <p:cNvSpPr/>
          <p:nvPr/>
        </p:nvSpPr>
        <p:spPr>
          <a:xfrm>
            <a:off x="395280" y="3789360"/>
            <a:ext cx="2160720" cy="1224000"/>
          </a:xfrm>
          <a:prstGeom prst="roundRect">
            <a:avLst>
              <a:gd name="adj" fmla="val 16667"/>
            </a:avLst>
          </a:prstGeom>
          <a:solidFill>
            <a:srgbClr val="21ff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доступности и качества оказания медицинской помощ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25"/>
          <p:cNvSpPr/>
          <p:nvPr/>
        </p:nvSpPr>
        <p:spPr>
          <a:xfrm>
            <a:off x="6516720" y="5516640"/>
            <a:ext cx="2376360" cy="1079280"/>
          </a:xfrm>
          <a:prstGeom prst="roundRect">
            <a:avLst>
              <a:gd name="adj" fmla="val 16667"/>
            </a:avLst>
          </a:prstGeom>
          <a:solidFill>
            <a:srgbClr val="21ff7b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ынка труда и занятости населения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6840" y="277560"/>
            <a:ext cx="8147160" cy="58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Улучшение жилищных условий и качества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ля стимулирования развития жилищного строительства  на территории Абанского района планируется организовать работу по следующим направления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ерриториальное планирование Абанского рай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ормирование системы капитального ремонта многоквартирных дом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вершенствование управления жилищным фонд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6840" y="277560"/>
            <a:ext cx="8218440" cy="63910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перспективе планируе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а) Комплексная застройка микрорайона «Южный»  в п. Абан, где   до 2030 года,  будут  построены  частные жилые дома с инфраструктурным  обеспечение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) Строительство 2-х этажного 16-ти квартирного жилого дома в Абанском сельсовете,   2020 - 2021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)  До 2030 года в Абанском сельсовете  запланировано  строительство 20-ти квартир предприятием ООО «Мана», в рамках государственной  программы Красноярского края «Развитие сельского хозяйства и регулирование рынков сельскохозяйственной продукции, сырья и продовольствия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1844280"/>
            <a:ext cx="8075520" cy="4753080"/>
          </a:xfrm>
          <a:prstGeom prst="rect">
            <a:avLst/>
          </a:prstGeom>
          <a:gradFill rotWithShape="0">
            <a:gsLst>
              <a:gs pos="0">
                <a:srgbClr val="b7d0f1"/>
              </a:gs>
              <a:gs pos="100000">
                <a:srgbClr val="e8effa"/>
              </a:gs>
            </a:gsLst>
            <a:lin ang="8100000"/>
          </a:gradFill>
          <a:ln w="9360">
            <a:solidFill>
              <a:srgbClr val="c6d9f1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работка схем теплоснабжения, водоснабжения, программ комплексного развития коммунальной инфраструкту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тверждение планов мероприятий по приведению качества воды в  соответствие с установленными требования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витие и модернизация коммунальной инфраструктуры (систем теплоснабжения, водоснабжения, водоотведения, котельных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еспечение социальной поддержки населения по оплате жилищно-коммунальных услуг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питальный ремонт, реконструкция водозаборных сооружений, котельных, тепловых с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конструкция автодорог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тимизация системы теплоснабжения котельной  в СОШ №3, приобретение и установка модульной котель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Скругленный прямоугольник 2"/>
          <p:cNvSpPr/>
          <p:nvPr/>
        </p:nvSpPr>
        <p:spPr>
          <a:xfrm>
            <a:off x="611280" y="333360"/>
            <a:ext cx="7993080" cy="136692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Обеспечение населения района качественными жилищно-коммунальными услугами в условиях развития рыночных отношений, создание условий для развития массового жилищного строительства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Овал 3"/>
          <p:cNvSpPr/>
          <p:nvPr/>
        </p:nvSpPr>
        <p:spPr>
          <a:xfrm>
            <a:off x="900000" y="333360"/>
            <a:ext cx="7775640" cy="597528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качества образования, соответствующего потребностям граждан и перспективным задачам развития экономики Абанского района посредством формирования социально-коммуникативных компетентностей для успешной социализации обучающихся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0" y="97524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395280" y="40464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вленная цель и предусматриваемое преобразование отрасли определяют основные направления деятельности по уровням и видам образования, которыми в предстоящие годы должны стать включённость в реализацию проектов федерального и регионального уровней, инициирование и осуществление собственных муниципальных проектов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468360" y="47628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оздание условий, в том числе культурно - досуговых, предполагающих наращивание духовно-нравственного потенциала жителей Абанского района, интеграция культурных практик района, создание своей идентичности в едином социально-экономическом и культурном пространстве  Красноярского края, поддержка многообразия культурной жизни и творческих инициатив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"/>
          <p:cNvSpPr/>
          <p:nvPr/>
        </p:nvSpPr>
        <p:spPr>
          <a:xfrm>
            <a:off x="0" y="-3728880"/>
            <a:ext cx="9144000" cy="120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2030 году планируется обеспечить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троительство новой Детской школы искусств (с открытием дополнительных предпрофессиональных общеобразовательных программ: «Живопись», «»Хоровое пение», «»Хореография»);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привлечение в детскую музыкальную школу молодых специалистов (5 чел.);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модульные клубы   п.Чигашет, д.Шивера., д.Мачино,с.Покатеево,д.Борзово, с.Вознесенка), а также будет построена современная районная библиотека, отвечающая всем современным требованиям времени;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проведение капремонтов  зданий учреждений культуры (составит 90 % от потребности);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обеспеченность библиотек и музея компьютерной и копировальной техникой, программными продуктами, подключение к сети Интернет составит 100 %;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пополнение библиотечного фонда новыми изданиями ежегодно в количестве не менее 1500 экземпляров;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населения</a:t>
            </a:r>
            <a:endParaRPr b="0" lang="en-US" sz="32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40" name="Содержимое 3" descr=""/>
          <p:cNvPicPr/>
          <p:nvPr/>
        </p:nvPicPr>
        <p:blipFill>
          <a:blip r:embed="rId1"/>
          <a:stretch/>
        </p:blipFill>
        <p:spPr>
          <a:xfrm>
            <a:off x="722160" y="1595520"/>
            <a:ext cx="8069400" cy="4611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611280" y="476280"/>
            <a:ext cx="842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ежегодно в конкурсе на предоставление субсидии (гранта) на реализацию социокультурных проектов будут принимать не менее 10 учреждений культуры Абанского района (2020-2025гг); 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на базе учреждений культуры Абанского района будут реализованы  проекты и мероприятия, способствующие созданию уникального образа территории:  проект «Развитие культурного бренда Абанского района «Эко - здравница «Бирюсинские зори» как благоприятного места для развития сельского и  культурного туризма, проект «Создание условий для развития культурно – образовательных  маршрутов, эко-туров, туристических маршрутов на территориях природоохранной зоны озер Святого, Боровое (Плахино), Абанских озер», сохранение, использование и популяризация объектов культурного наследия (памятников истории и культуры), находящихся на территории Абанского района.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"/>
          <p:cNvSpPr/>
          <p:nvPr/>
        </p:nvSpPr>
        <p:spPr>
          <a:xfrm>
            <a:off x="0" y="623160"/>
            <a:ext cx="9144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обровольчество»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Ассоциация студенческого спорта» 2.«Моя территория»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Арт-парад»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Ассоциация военно-патриотических клубов» и «Юнармия»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йское движение школьников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ная деятельность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объединений по интересам при Молодежном центре: клубы любителей кино; любителей настольных игр; спортивные объединения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я территори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2"/>
          <p:cNvSpPr/>
          <p:nvPr/>
        </p:nvSpPr>
        <p:spPr>
          <a:xfrm>
            <a:off x="611280" y="260280"/>
            <a:ext cx="7993080" cy="1728720"/>
          </a:xfrm>
          <a:prstGeom prst="roundRect">
            <a:avLst>
              <a:gd name="adj" fmla="val 16667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здание условий для участия молодежи в социально-экономической, политической и культурной жизни обществ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1"/>
          <p:cNvSpPr/>
          <p:nvPr/>
        </p:nvSpPr>
        <p:spPr>
          <a:xfrm>
            <a:off x="539640" y="119700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лучшение   качества жизни жителей района через привлечение и участие их в регулярных, доступных, качественных  занятиях физической культурой, спортом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"/>
          <p:cNvSpPr/>
          <p:nvPr/>
        </p:nvSpPr>
        <p:spPr>
          <a:xfrm>
            <a:off x="395280" y="402480"/>
            <a:ext cx="8424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оритеты развития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4"/>
          <p:cNvSpPr/>
          <p:nvPr/>
        </p:nvSpPr>
        <p:spPr>
          <a:xfrm>
            <a:off x="3132000" y="1125360"/>
            <a:ext cx="37260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.Организация спортивных занятий для населения в вечернее время, в выходные дн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5"/>
          <p:cNvSpPr/>
          <p:nvPr/>
        </p:nvSpPr>
        <p:spPr>
          <a:xfrm>
            <a:off x="324000" y="2276640"/>
            <a:ext cx="28080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3.Организация учебно-тренировочного процесс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6"/>
          <p:cNvSpPr/>
          <p:nvPr/>
        </p:nvSpPr>
        <p:spPr>
          <a:xfrm>
            <a:off x="3708360" y="2276640"/>
            <a:ext cx="3149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4. Работа федераций по разным видам спорт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7"/>
          <p:cNvSpPr/>
          <p:nvPr/>
        </p:nvSpPr>
        <p:spPr>
          <a:xfrm>
            <a:off x="395280" y="3284640"/>
            <a:ext cx="646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5.Организация физического воспитания в образовательных учреждениях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8"/>
          <p:cNvSpPr/>
          <p:nvPr/>
        </p:nvSpPr>
        <p:spPr>
          <a:xfrm>
            <a:off x="468360" y="1052640"/>
            <a:ext cx="251928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1.Развитие клубной спортивной работы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9"/>
          <p:cNvSpPr/>
          <p:nvPr/>
        </p:nvSpPr>
        <p:spPr>
          <a:xfrm>
            <a:off x="324000" y="4076640"/>
            <a:ext cx="338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6. Организация физкультурно- массовой и спортивной работ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0"/>
          <p:cNvSpPr/>
          <p:nvPr/>
        </p:nvSpPr>
        <p:spPr>
          <a:xfrm>
            <a:off x="4764240" y="4076640"/>
            <a:ext cx="4176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7. Развитие спартакиадного движени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11"/>
          <p:cNvSpPr/>
          <p:nvPr/>
        </p:nvSpPr>
        <p:spPr>
          <a:xfrm>
            <a:off x="324000" y="4869000"/>
            <a:ext cx="2879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8. Участие в краевых спортивных проектах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2"/>
          <p:cNvSpPr/>
          <p:nvPr/>
        </p:nvSpPr>
        <p:spPr>
          <a:xfrm>
            <a:off x="3564000" y="4797360"/>
            <a:ext cx="4895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9. Работа спортивных советов на территориях сельсовето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3"/>
          <p:cNvSpPr/>
          <p:nvPr/>
        </p:nvSpPr>
        <p:spPr>
          <a:xfrm>
            <a:off x="250920" y="5661000"/>
            <a:ext cx="36734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10. Развитие адаптивного спорт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14"/>
          <p:cNvSpPr/>
          <p:nvPr/>
        </p:nvSpPr>
        <p:spPr>
          <a:xfrm>
            <a:off x="4500720" y="5589720"/>
            <a:ext cx="43192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11. Развитие Всероссийского физкультурно-спортивного комплекса «ГТО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"/>
          <p:cNvSpPr/>
          <p:nvPr/>
        </p:nvSpPr>
        <p:spPr>
          <a:xfrm>
            <a:off x="395280" y="335160"/>
            <a:ext cx="820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2030 году планируется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ительство открытого Стадиона  (п. Абан)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ительство хоккейных  коробок (п. Почет, с. Долгий Мост, с. Березовка, с. Самойловка, с. Хандальск)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ительство спортивной площадки для игровых видов спорта в Парке «Горка»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стройство спортивных площадок при школах, детских садах в соответствии с современными требованиями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рудование  уличных спортивных площадок на территориях сельсоветов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"/>
          <p:cNvSpPr/>
          <p:nvPr/>
        </p:nvSpPr>
        <p:spPr>
          <a:xfrm>
            <a:off x="0" y="1241280"/>
            <a:ext cx="914400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ыми направлениями реализации цели социальной защиты населения района в период до 2030 года будут являться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системы социальной поддержки граждан с учетом применения критерия адресности;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доступной среды для инвалидов и других маломобильных групп населения;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орм и методов социальной реабилитации граждан пожилого возраста и инвалидов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2030 года планируется достичь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дельный вес граждан, получающих меры социальной поддержки адресно ( с учетом доходности) в общей численности граждан, имеющих на них право 47,4% (46,73% в 2017 году.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4"/>
          <p:cNvSpPr/>
          <p:nvPr/>
        </p:nvSpPr>
        <p:spPr>
          <a:xfrm>
            <a:off x="250920" y="260280"/>
            <a:ext cx="8424720" cy="129708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Повышение уровня качества жизни социально-незащищенных категорий, населения, степени их защищенност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1"/>
          <p:cNvSpPr/>
          <p:nvPr/>
        </p:nvSpPr>
        <p:spPr>
          <a:xfrm>
            <a:off x="826920" y="115920"/>
            <a:ext cx="7993080" cy="58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, способствующих обеспечению доступности и качества оказания медицинской помощи населению, а также соблюдению прав граждан в сфере охраны здоровья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ческая цель в сфере здравоохранения - увеличение продолжительности жизни населения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направлениями деятельности в предстоящие годы должны стать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эффективной системы профилактики заболевани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ое обеспечение системы здравоохранения и преодоление дефицита медицинских кадров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системы оказания медицинской помощ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нформатизации в здравоохранени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ие телемедийных  технологи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1"/>
          <p:cNvSpPr/>
          <p:nvPr/>
        </p:nvSpPr>
        <p:spPr>
          <a:xfrm>
            <a:off x="468360" y="115920"/>
            <a:ext cx="8351640" cy="646200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 2030 году планируется: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обретение передвижного мобильного комплекса;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новка модульных ФАПов - 7  (Алексеевка, Лазарево, Мачино, Стерлитармак, Покровка, Зимник, Хиндичет);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обретение оборудования: аппарат  искусственной вентиляции лёгких, биохимический  анализатор, 3 электрокардиографа, спирограф, рентгеноаппарат; приобретение автомобилей Скорой помощи;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итальный ремонт учреждений здравоохранения - реконструкция санузла для маломобильных групп населения,  капитальный ремонт отдела запаса, замена окон в детском отделении, в детской консультации, в поликлинике, замена окон и крыши в гараже, капитальный ремонт ФАПов: Борзово, Успенка,  Пея, Заозёрка;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ительство пищеблока и административного корпуса.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"/>
          <p:cNvSpPr/>
          <p:nvPr/>
        </p:nvSpPr>
        <p:spPr>
          <a:xfrm>
            <a:off x="0" y="81720"/>
            <a:ext cx="903600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охраны окружающей среды, экологической и радиационной безопасности населения Абанского района, безопасности гидротехнических сооружений и сохранение биологического разнообразия на территории Абанского района.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2030 г. будет запланировано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ительство очистных сооружений полной биологической очистки, с механическим обезвоживанием осадка и системой обеззараживания сточных вод;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ительство мусороперерабатывающих станций мощностью 1,5 тыс. т/год (с. Долгий Мост), мощностью 1,0 тыс. т/год п. Почет;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ительство межмуниципального  полигона мощностью 11,5 тыс. т/год;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комплекса по сортировке ТКО в п. Абан мощностью 19 тыс. т/год;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ультивация несанкционированной свалки северо-восточнее п. Абан, 500м. площадь 8,6 га;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стройство контейнерных площадок временного накопления ТКО и приобретение контейнерного оборудования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0" y="1097280"/>
            <a:ext cx="9144000" cy="94716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рынка труда и обеспечение занятости населения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08000" y="2083320"/>
            <a:ext cx="878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ориентационная работа среди молодежи, участие в программах трудовой мобильности, программе кадрового обеспечени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новых информационных технологий и обеспечение доступности информационных ресурсов в сфере занятости населения и трудовых отношени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ие в программе трудовой  мобильности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ация временной занятости и общественных работ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2736720" cy="51850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населени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.01.2008г. – 24997 чел.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.01.2018г. – 19951 чел.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безработицы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.01.2008г. -5,0%                                        01.01.2018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,3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1" descr=""/>
          <p:cNvPicPr/>
          <p:nvPr/>
        </p:nvPicPr>
        <p:blipFill>
          <a:blip r:embed="rId1"/>
          <a:srcRect l="0" t="1809" r="0" b="1809"/>
          <a:stretch/>
        </p:blipFill>
        <p:spPr>
          <a:xfrm>
            <a:off x="3203640" y="765000"/>
            <a:ext cx="5761080" cy="52563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43" name="Скругленный прямоугольник 4"/>
          <p:cNvSpPr/>
          <p:nvPr/>
        </p:nvSpPr>
        <p:spPr>
          <a:xfrm>
            <a:off x="3276720" y="6093000"/>
            <a:ext cx="539892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района 951,114 тыс.га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Скругленный прямоугольник 1"/>
          <p:cNvSpPr/>
          <p:nvPr/>
        </p:nvSpPr>
        <p:spPr>
          <a:xfrm>
            <a:off x="395280" y="26028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экономического потенциала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2"/>
          <p:cNvSpPr/>
          <p:nvPr/>
        </p:nvSpPr>
        <p:spPr>
          <a:xfrm>
            <a:off x="324000" y="1700280"/>
            <a:ext cx="8496000" cy="26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27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Для достижения цели необходимо решить следующие задачи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Устойчивое развитие  сельскохозяйственного производства, обеспечивающего занятость сельского населения, увеличение валового объема производства, а также повышение конкурентоспособности сельскохозяйственной продукции на основе модернизации производств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Поддержка и развитие малого и среднего предпринимательства в Абанском районе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Комплексное развитие дорожного хозяйств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3"/>
          <p:cNvSpPr/>
          <p:nvPr/>
        </p:nvSpPr>
        <p:spPr>
          <a:xfrm>
            <a:off x="395280" y="4724280"/>
            <a:ext cx="8497800" cy="1944720"/>
          </a:xfrm>
          <a:prstGeom prst="roundRect">
            <a:avLst>
              <a:gd name="adj" fmla="val 16667"/>
            </a:avLst>
          </a:prstGeom>
          <a:solidFill>
            <a:srgbClr val="5ee0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жидаемые результаты достижения  цели: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.Обеспечение стабильной работы предприятий традиционных для территории района отраслей промышленности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2.Развитие и обеспечение устойчивого роста сельскохозяйственного производства с увеличением объемов переработки продукции, в том числе за счет поддержки малых форм хозяйствования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3. Эффективное использование механизмов создания благоприятной бизнес-среды, в том числе в сфере малого и среднего предпринимательства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0" y="17640"/>
            <a:ext cx="9144000" cy="6129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ое развитие сельскохозяйственного производства, обеспечивающего занятость сельского населения, увеличение валового объема производства, а так же повышение конкурентоспособности сельскохозяйственной продукции, на основе модернизации сельскохозяйственного производств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отдельный секторов АПК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стениеводстве: сохранение и увеличение валового производства  сельскохозяйственных культур за счет увеличение урожайности и посевных площадей, техническое перевооружение, путем ускоренного внедрения    энергосберегающей техники и строительства новых объектов складского хозяйства, внедрение региональной системы земледелия, создание перерабатывающих производств на базе малых предприятий;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животноводстве: рос поголовья сельскохозяйственных животных, повышение продуктивности в отрасли, за счет развития устойчивой кормовой базы, селекционных работ, воспроизводства стада, строительство новых объектов животноводства, реконструкция и модернизация действующих объектов животноводства.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малых форм хозяйствовани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новых направлений в отрасли сельского хозяйств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1"/>
          <p:cNvSpPr/>
          <p:nvPr/>
        </p:nvSpPr>
        <p:spPr>
          <a:xfrm>
            <a:off x="539640" y="260280"/>
            <a:ext cx="8209080" cy="865080"/>
          </a:xfrm>
          <a:prstGeom prst="roundRect">
            <a:avLst>
              <a:gd name="adj" fmla="val 16667"/>
            </a:avLst>
          </a:prstGeom>
          <a:solidFill>
            <a:srgbClr val="0c04ac"/>
          </a:soli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«Точки роста», обеспечивающие развитие Абанского района, ( в том числе значимые социальные проекты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2"/>
          <p:cNvSpPr/>
          <p:nvPr/>
        </p:nvSpPr>
        <p:spPr>
          <a:xfrm>
            <a:off x="611280" y="1268280"/>
            <a:ext cx="8281800" cy="52293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341360"/>
          <a:ext cx="8712000" cy="5195880"/>
        </p:xfrm>
        <a:graphic>
          <a:graphicData uri="http://schemas.openxmlformats.org/drawingml/2006/table">
            <a:tbl>
              <a:tblPr/>
              <a:tblGrid>
                <a:gridCol w="512640"/>
                <a:gridCol w="8199360"/>
              </a:tblGrid>
              <a:tr h="593640"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ект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642960"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х по переработке молока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«Мана 2020-2024г.г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708120"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льное отделение на 120 скотомест, коровника на 300 голов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«Мана»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963720"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х по производству полуфабрикатов на базе убойного, уже введенного в эксплуатацию.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«Мана» 2019г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674640"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оводческий комплекс на 1000 гол. КРС, ООО «Мана» 2019 г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966600"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оводческий комплекс на 600 гол КРС, ИП Глава К(Ф)Х Сапрыкина Татьяна Георгиевна, 2019-2020г.г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646200"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ный минизавод по переработке молока ИП Глава К(Ф)Х Вейхлей С.А. 2025г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0" y="250920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правления поддержки малого предпринимательства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 консультационно-информационная поддержка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имущественная поддержка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финансовая поддержка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2"/>
          <p:cNvSpPr/>
          <p:nvPr/>
        </p:nvSpPr>
        <p:spPr>
          <a:xfrm>
            <a:off x="611280" y="189000"/>
            <a:ext cx="8137440" cy="1511280"/>
          </a:xfrm>
          <a:prstGeom prst="ellipse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Поддержка и развитие малого и среднего предпринимательства в Абанском районе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0" y="-850680"/>
            <a:ext cx="9144000" cy="82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асти развития автомобильного транспорта и дорожного хозяйства с учетом существующих проблем основными направлениями являются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дорожной инфраструктуры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монт и содержание внутрипоселенческих автомобильных дорог;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ведение мероприятий, предупреждающих дорожно-транспортные происшествия на сети дорог местного значения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ое и доступное  обеспечение потребности населения Абанского района в пассажирских перевозках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кругленный прямоугольник 2"/>
          <p:cNvSpPr/>
          <p:nvPr/>
        </p:nvSpPr>
        <p:spPr>
          <a:xfrm>
            <a:off x="611280" y="404640"/>
            <a:ext cx="7632720" cy="136872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ксное развитие дорожного хозяйства Абанского район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36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0" y="1541880"/>
            <a:ext cx="9144000" cy="3080160"/>
          </a:xfrm>
          <a:prstGeom prst="rect">
            <a:avLst/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2030 году планируется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остроить 17 км. улично-дорожной сети для новых проектируемых жилых образований МКР «Южный»(2025- 2030г.)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Заасфальтировать 177,2 км гравийных дорог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Отремонтировать 67,9 км. с асфальтобетонным покрытием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36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05920" cy="720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эффективности управления ресурса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Схема 3" descr=""/>
          <p:cNvPicPr/>
          <p:nvPr/>
        </p:nvPicPr>
        <p:blipFill>
          <a:blip r:embed="rId1"/>
          <a:stretch/>
        </p:blipFill>
        <p:spPr>
          <a:xfrm>
            <a:off x="231840" y="1163520"/>
            <a:ext cx="8820000" cy="359100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оугольник 4"/>
          <p:cNvSpPr/>
          <p:nvPr/>
        </p:nvSpPr>
        <p:spPr>
          <a:xfrm>
            <a:off x="250920" y="4941720"/>
            <a:ext cx="8713800" cy="1849680"/>
          </a:xfrm>
          <a:prstGeom prst="rect">
            <a:avLst/>
          </a:prstGeom>
          <a:solidFill>
            <a:srgbClr val="66ff99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й результат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Увеличение объема налоговых доходов местного бюджет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Увеличение доходов от использования, продажи муниципального имущества и земельных участков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Обеспечение информационной открытости власти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Совершенствование бюджетного планирования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16"/>
          <p:cNvSpPr/>
          <p:nvPr/>
        </p:nvSpPr>
        <p:spPr>
          <a:xfrm>
            <a:off x="250920" y="260280"/>
            <a:ext cx="8246880" cy="752400"/>
          </a:xfrm>
          <a:prstGeom prst="rect">
            <a:avLst/>
          </a:prstGeom>
          <a:solidFill>
            <a:srgbClr val="0171c3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10"/>
          <p:cNvSpPr/>
          <p:nvPr/>
        </p:nvSpPr>
        <p:spPr>
          <a:xfrm>
            <a:off x="108000" y="1557360"/>
            <a:ext cx="2879640" cy="9349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 населения в 2030 году останется на уровне 2018 год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Скругленный прямоугольник 11"/>
          <p:cNvGrpSpPr/>
          <p:nvPr/>
        </p:nvGrpSpPr>
        <p:grpSpPr>
          <a:xfrm>
            <a:off x="3365640" y="2511360"/>
            <a:ext cx="2492280" cy="2401920"/>
            <a:chOff x="3365640" y="2511360"/>
            <a:chExt cx="2492280" cy="2401920"/>
          </a:xfrm>
        </p:grpSpPr>
        <p:pic>
          <p:nvPicPr>
            <p:cNvPr id="329" name="Скругленный прямоугольник 11" descr=""/>
            <p:cNvPicPr/>
            <p:nvPr/>
          </p:nvPicPr>
          <p:blipFill>
            <a:blip r:embed="rId1"/>
            <a:stretch/>
          </p:blipFill>
          <p:spPr>
            <a:xfrm>
              <a:off x="3365640" y="2511360"/>
              <a:ext cx="249228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597120" y="2741760"/>
              <a:ext cx="202572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Целевые ориентиры социально-экономического развития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578800" cy="795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ерспективы разви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6"/>
          <p:cNvSpPr/>
          <p:nvPr/>
        </p:nvSpPr>
        <p:spPr>
          <a:xfrm>
            <a:off x="3657600" y="655308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1CAA-42CC-48DD-8733-EAB9F8FF6D32}" type="slidenum">
              <a:rPr b="1" i="1" lang="en-US" sz="12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Скругленный прямоугольник 12"/>
          <p:cNvGrpSpPr/>
          <p:nvPr/>
        </p:nvGrpSpPr>
        <p:grpSpPr>
          <a:xfrm>
            <a:off x="49320" y="2577960"/>
            <a:ext cx="3065400" cy="1555920"/>
            <a:chOff x="49320" y="2577960"/>
            <a:chExt cx="3065400" cy="1555920"/>
          </a:xfrm>
        </p:grpSpPr>
        <p:pic>
          <p:nvPicPr>
            <p:cNvPr id="334" name="Скругленный 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49320" y="2577960"/>
              <a:ext cx="3065400" cy="15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43000" y="2771640"/>
              <a:ext cx="268128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ст реально начисленной заработной платы к 2030 году в 1,2 раза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Скругленный прямоугольник 13"/>
          <p:cNvGrpSpPr/>
          <p:nvPr/>
        </p:nvGrpSpPr>
        <p:grpSpPr>
          <a:xfrm>
            <a:off x="5956200" y="1500120"/>
            <a:ext cx="3138480" cy="1266840"/>
            <a:chOff x="5956200" y="1500120"/>
            <a:chExt cx="3138480" cy="1266840"/>
          </a:xfrm>
        </p:grpSpPr>
        <p:pic>
          <p:nvPicPr>
            <p:cNvPr id="337" name="Скругленный прямоугольник 13" descr=""/>
            <p:cNvPicPr/>
            <p:nvPr/>
          </p:nvPicPr>
          <p:blipFill>
            <a:blip r:embed="rId3"/>
            <a:stretch/>
          </p:blipFill>
          <p:spPr>
            <a:xfrm>
              <a:off x="5956200" y="1500120"/>
              <a:ext cx="313848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6134040" y="1677960"/>
              <a:ext cx="27813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ст объемов производства продукции сельского хозяйства в хозяйствах всех категорий в сопоставимых ценах на 108,2%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Скругленный прямоугольник 14"/>
          <p:cNvGrpSpPr/>
          <p:nvPr/>
        </p:nvGrpSpPr>
        <p:grpSpPr>
          <a:xfrm>
            <a:off x="3144960" y="1000080"/>
            <a:ext cx="2921040" cy="974880"/>
            <a:chOff x="3144960" y="1000080"/>
            <a:chExt cx="2921040" cy="974880"/>
          </a:xfrm>
        </p:grpSpPr>
        <p:pic>
          <p:nvPicPr>
            <p:cNvPr id="340" name="Скругленный прямоугольник 14" descr=""/>
            <p:cNvPicPr/>
            <p:nvPr/>
          </p:nvPicPr>
          <p:blipFill>
            <a:blip r:embed="rId4"/>
            <a:stretch/>
          </p:blipFill>
          <p:spPr>
            <a:xfrm>
              <a:off x="3144960" y="1000080"/>
              <a:ext cx="292104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3311640" y="1160640"/>
              <a:ext cx="25938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нижение уровня безработицы с 2,3% до 1,9% в 2030 году.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Рисунок 20" descr="Герб Абан"/>
          <p:cNvPicPr/>
          <p:nvPr/>
        </p:nvPicPr>
        <p:blipFill>
          <a:blip r:embed="rId5"/>
          <a:stretch/>
        </p:blipFill>
        <p:spPr>
          <a:xfrm>
            <a:off x="250920" y="333360"/>
            <a:ext cx="504720" cy="647640"/>
          </a:xfrm>
          <a:prstGeom prst="rect">
            <a:avLst/>
          </a:prstGeom>
          <a:ln w="0">
            <a:noFill/>
          </a:ln>
        </p:spPr>
      </p:pic>
      <p:sp>
        <p:nvSpPr>
          <p:cNvPr id="343" name="Скругленный прямоугольник 17"/>
          <p:cNvSpPr/>
          <p:nvPr/>
        </p:nvSpPr>
        <p:spPr>
          <a:xfrm>
            <a:off x="250920" y="4149720"/>
            <a:ext cx="2881080" cy="11509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числа СМП на 10000 жителей с 206 ед. до 255 ед. к  2030г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18"/>
          <p:cNvSpPr/>
          <p:nvPr/>
        </p:nvSpPr>
        <p:spPr>
          <a:xfrm>
            <a:off x="1692360" y="5732640"/>
            <a:ext cx="5688000" cy="100944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к 2030 году жилищного фонда, оборудованного водопроводом  с 30% в 2017 году  до 60%, отоплением с 5,6% в 2017 году  до 7,5% в 2030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кругленный прямоугольник 21"/>
          <p:cNvSpPr/>
          <p:nvPr/>
        </p:nvSpPr>
        <p:spPr>
          <a:xfrm>
            <a:off x="6227640" y="2924280"/>
            <a:ext cx="2737080" cy="144144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ение посевных площадей с 48845 га до 58845 га. Увеличение поголовья КРС на 78%, свиней на 46%, овец на 53%, лошадей в 2,7 раза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кругленный прямоугольник 22"/>
          <p:cNvSpPr/>
          <p:nvPr/>
        </p:nvSpPr>
        <p:spPr>
          <a:xfrm>
            <a:off x="6227640" y="4437000"/>
            <a:ext cx="2571840" cy="1152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доли детей от 1 до 6 лет, получающих дошкольную образовательную услугу с 91 до 97%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Нашивка 23"/>
          <p:cNvSpPr/>
          <p:nvPr/>
        </p:nvSpPr>
        <p:spPr>
          <a:xfrm rot="16200000">
            <a:off x="4201920" y="1998360"/>
            <a:ext cx="792360" cy="484200"/>
          </a:xfrm>
          <a:custGeom>
            <a:avLst/>
            <a:gdLst>
              <a:gd name="textAreaLeft" fmla="*/ 0 w 792360"/>
              <a:gd name="textAreaRight" fmla="*/ 792720 w 7923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99" y="0"/>
                </a:lnTo>
                <a:lnTo>
                  <a:pt x="21600" y="10800"/>
                </a:lnTo>
                <a:lnTo>
                  <a:pt x="14999" y="21600"/>
                </a:lnTo>
                <a:lnTo>
                  <a:pt x="0" y="21600"/>
                </a:lnTo>
                <a:lnTo>
                  <a:pt x="6601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ашивка 24"/>
          <p:cNvSpPr/>
          <p:nvPr/>
        </p:nvSpPr>
        <p:spPr>
          <a:xfrm rot="5400000">
            <a:off x="4202280" y="5022000"/>
            <a:ext cx="935280" cy="485640"/>
          </a:xfrm>
          <a:custGeom>
            <a:avLst/>
            <a:gdLst>
              <a:gd name="textAreaLeft" fmla="*/ 0 w 935280"/>
              <a:gd name="textAreaRight" fmla="*/ 935640 w 93528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989" y="0"/>
                </a:lnTo>
                <a:lnTo>
                  <a:pt x="21600" y="10800"/>
                </a:lnTo>
                <a:lnTo>
                  <a:pt x="15989" y="21600"/>
                </a:lnTo>
                <a:lnTo>
                  <a:pt x="0" y="21600"/>
                </a:lnTo>
                <a:lnTo>
                  <a:pt x="5611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Нашивка 25"/>
          <p:cNvSpPr/>
          <p:nvPr/>
        </p:nvSpPr>
        <p:spPr>
          <a:xfrm>
            <a:off x="5724360" y="3500280"/>
            <a:ext cx="484200" cy="4860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Нашивка 26"/>
          <p:cNvSpPr/>
          <p:nvPr/>
        </p:nvSpPr>
        <p:spPr>
          <a:xfrm rot="10800000">
            <a:off x="2987280" y="3284280"/>
            <a:ext cx="484200" cy="4842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ашивка 27"/>
          <p:cNvSpPr/>
          <p:nvPr/>
        </p:nvSpPr>
        <p:spPr>
          <a:xfrm rot="13702200">
            <a:off x="2943000" y="2247480"/>
            <a:ext cx="795240" cy="484200"/>
          </a:xfrm>
          <a:custGeom>
            <a:avLst/>
            <a:gdLst>
              <a:gd name="textAreaLeft" fmla="*/ 0 w 795240"/>
              <a:gd name="textAreaRight" fmla="*/ 795600 w 79524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25" y="0"/>
                </a:lnTo>
                <a:lnTo>
                  <a:pt x="21600" y="10800"/>
                </a:lnTo>
                <a:lnTo>
                  <a:pt x="15025" y="21600"/>
                </a:lnTo>
                <a:lnTo>
                  <a:pt x="0" y="21600"/>
                </a:lnTo>
                <a:lnTo>
                  <a:pt x="6575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ашивка 28"/>
          <p:cNvSpPr/>
          <p:nvPr/>
        </p:nvSpPr>
        <p:spPr>
          <a:xfrm rot="8524800">
            <a:off x="3147480" y="4525200"/>
            <a:ext cx="486000" cy="484200"/>
          </a:xfrm>
          <a:custGeom>
            <a:avLst/>
            <a:gdLst>
              <a:gd name="textAreaLeft" fmla="*/ 0 w 486000"/>
              <a:gd name="textAreaRight" fmla="*/ 486360 w 4860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35" y="0"/>
                </a:lnTo>
                <a:lnTo>
                  <a:pt x="21600" y="10800"/>
                </a:lnTo>
                <a:lnTo>
                  <a:pt x="10835" y="21600"/>
                </a:lnTo>
                <a:lnTo>
                  <a:pt x="0" y="21600"/>
                </a:lnTo>
                <a:lnTo>
                  <a:pt x="10765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Нашивка 29"/>
          <p:cNvSpPr/>
          <p:nvPr/>
        </p:nvSpPr>
        <p:spPr>
          <a:xfrm rot="2160000">
            <a:off x="5580000" y="4603320"/>
            <a:ext cx="674640" cy="486000"/>
          </a:xfrm>
          <a:custGeom>
            <a:avLst/>
            <a:gdLst>
              <a:gd name="textAreaLeft" fmla="*/ 0 w 674640"/>
              <a:gd name="textAreaRight" fmla="*/ 675000 w 67464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24" y="0"/>
                </a:lnTo>
                <a:lnTo>
                  <a:pt x="21600" y="10800"/>
                </a:lnTo>
                <a:lnTo>
                  <a:pt x="13824" y="21600"/>
                </a:lnTo>
                <a:lnTo>
                  <a:pt x="0" y="21600"/>
                </a:lnTo>
                <a:lnTo>
                  <a:pt x="7776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Нашивка 30"/>
          <p:cNvSpPr/>
          <p:nvPr/>
        </p:nvSpPr>
        <p:spPr>
          <a:xfrm rot="19410000">
            <a:off x="5605560" y="2373480"/>
            <a:ext cx="484200" cy="4842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1" descr="28062008(00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3"/>
          <p:cNvSpPr/>
          <p:nvPr/>
        </p:nvSpPr>
        <p:spPr>
          <a:xfrm>
            <a:off x="4643280" y="18414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636ba"/>
                </a:solidFill>
                <a:latin typeface="Arial"/>
              </a:rPr>
              <a:t>Спасибо за внимание</a:t>
            </a:r>
            <a:r>
              <a:rPr b="1" i="1" lang="en-US" sz="3600" spc="-1" strike="noStrike">
                <a:solidFill>
                  <a:srgbClr val="4636ba"/>
                </a:solidFill>
                <a:latin typeface="Arial"/>
              </a:rPr>
              <a:t> !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3d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Содержимое 4" descr=""/>
          <p:cNvPicPr/>
          <p:nvPr/>
        </p:nvPicPr>
        <p:blipFill>
          <a:blip r:embed="rId1"/>
          <a:stretch/>
        </p:blipFill>
        <p:spPr>
          <a:xfrm>
            <a:off x="403200" y="412920"/>
            <a:ext cx="8217000" cy="6141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0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Содержимое 4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115120" cy="6040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Содержимое 4" descr=""/>
          <p:cNvPicPr/>
          <p:nvPr/>
        </p:nvPicPr>
        <p:blipFill>
          <a:blip r:embed="rId1"/>
          <a:stretch/>
        </p:blipFill>
        <p:spPr>
          <a:xfrm>
            <a:off x="403200" y="412920"/>
            <a:ext cx="8217000" cy="6141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Содержимое 4" descr=""/>
          <p:cNvPicPr/>
          <p:nvPr/>
        </p:nvPicPr>
        <p:blipFill>
          <a:blip r:embed="rId1"/>
          <a:stretch/>
        </p:blipFill>
        <p:spPr>
          <a:xfrm>
            <a:off x="403200" y="412920"/>
            <a:ext cx="8217000" cy="6141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Содержимое 4" descr=""/>
          <p:cNvPicPr/>
          <p:nvPr/>
        </p:nvPicPr>
        <p:blipFill>
          <a:blip r:embed="rId1"/>
          <a:stretch/>
        </p:blipFill>
        <p:spPr>
          <a:xfrm>
            <a:off x="403200" y="412920"/>
            <a:ext cx="8217000" cy="6141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d0d0d"/>
                </a:solidFill>
                <a:latin typeface="Calibri"/>
              </a:rPr>
              <a:t>Миссия района 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136160" y="1214280"/>
            <a:ext cx="8007480" cy="37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74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анский район  - </a:t>
            </a:r>
            <a:r>
              <a:rPr b="1" lang="ru-RU" sz="3100" spc="-1" strike="noStrike">
                <a:solidFill>
                  <a:srgbClr val="000000"/>
                </a:solidFill>
                <a:latin typeface="Constantia"/>
              </a:rPr>
              <a:t>конкурентоспособный, устойчиво-развитый муниципальный район, с современным, устойчиво развитым сельскохозяйственным производством, комфортной социальной сферой и инфраструктурой, привлекательной для жителей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4:32:21Z</dcterms:created>
  <dc:creator>Tux</dc:creator>
  <dc:description/>
  <dc:language>en-US</dc:language>
  <cp:lastModifiedBy>Admin</cp:lastModifiedBy>
  <dcterms:modified xsi:type="dcterms:W3CDTF">2019-02-20T03:21:46Z</dcterms:modified>
  <cp:revision>1196</cp:revision>
  <dc:subject/>
  <dc:title>Слайд 1</dc:title>
</cp:coreProperties>
</file>