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F41-EFA6-4A9B-B54D-0249323A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A68-A46C-450D-8159-F64692B4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BBF-151D-40DC-8492-905A660C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781-0147-47FC-A2A9-A5646E6C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C5B-6FCA-409E-A833-A572D8D9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E0C-A509-4F03-9B69-794808C5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1F8-9FEE-4930-97CC-A41AA97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037-6CAD-4059-95C0-76782CB8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A30-0673-4223-AA0F-823735FD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BAE-A1C9-44E0-8760-8213EA4C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AD7-40B2-44EC-9696-E51AF6B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D88-43F5-4C99-BAE4-6B1961F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54C-D4D8-4598-BF24-26701077D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 u="sng">
                <a:solidFill>
                  <a:srgbClr val="000099"/>
                </a:solidFill>
                <a:uFillTx/>
                <a:latin typeface="Times New Roman"/>
              </a:rPr>
              <a:t>Владение, пользование и распоряжение имуществом находящимся в муниципальной собственности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рганизация эффективного управления муниципальным имуществом района и увеличение доходной части местного бюджета- основная цель работы РОУ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260280"/>
          <a:ext cx="8280360" cy="6423120"/>
        </p:xfrm>
        <a:graphic>
          <a:graphicData uri="http://schemas.openxmlformats.org/drawingml/2006/table">
            <a:tbl>
              <a:tblPr/>
              <a:tblGrid>
                <a:gridCol w="3562200"/>
                <a:gridCol w="1406520"/>
                <a:gridCol w="1511280"/>
                <a:gridCol w="1800360"/>
              </a:tblGrid>
              <a:tr h="208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и от продажи материальных и не материальных актив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с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MS Mincho"/>
                        </a:rPr>
                        <a:t>112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MS Mincho"/>
                        </a:rPr>
                        <a:t>1189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4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35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ходы от перечисления части прибыли муниципальных унитарных пред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 материальных акти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7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Times New Roman"/>
              </a:rPr>
              <a:t>Аренда муниципального имущества- один из показателей эффективного использования муниципального имущества района                                                                                    </a:t>
            </a:r>
            <a:br>
              <a:rPr sz="2800"/>
            </a:br>
            <a:br>
              <a:rPr sz="2800"/>
            </a:br>
            <a:r>
              <a:rPr b="1" i="1" lang="ru-RU" sz="3600" spc="-1" strike="noStrike" u="sng">
                <a:solidFill>
                  <a:srgbClr val="0000cc"/>
                </a:solidFill>
                <a:uFillTx/>
                <a:latin typeface="Times New Roman"/>
              </a:rPr>
              <a:t>Аренда муниципального иму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2971800"/>
          <a:ext cx="8381880" cy="2800440"/>
        </p:xfrm>
        <a:graphic>
          <a:graphicData uri="http://schemas.openxmlformats.org/drawingml/2006/table">
            <a:tbl>
              <a:tblPr/>
              <a:tblGrid>
                <a:gridCol w="3844800"/>
                <a:gridCol w="1984680"/>
                <a:gridCol w="1412640"/>
                <a:gridCol w="11397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% и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Количество  договоров ар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4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Поступление арендной  плата          (тыс. руб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569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12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Одним из приоритетных направлений в работе РОУМИ является активация арендных отношений, и взыскание задолженности арендной платы за землю с целью увеличения доходной части бюджета</a:t>
            </a:r>
            <a:br>
              <a:rPr sz="2400"/>
            </a:b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Times New Roman"/>
              </a:rPr>
              <a:t>Аренда зем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2666880"/>
          <a:ext cx="8229600" cy="3795840"/>
        </p:xfrm>
        <a:graphic>
          <a:graphicData uri="http://schemas.openxmlformats.org/drawingml/2006/table">
            <a:tbl>
              <a:tblPr/>
              <a:tblGrid>
                <a:gridCol w="3899160"/>
                <a:gridCol w="1299960"/>
                <a:gridCol w="1731960"/>
                <a:gridCol w="1298520"/>
              </a:tblGrid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% ис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Количество заключенных догов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7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7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0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Арендная площадь (г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464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56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0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Арендная плата (тыс. 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3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22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9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762120"/>
          <a:ext cx="8229600" cy="4844880"/>
        </p:xfrm>
        <a:graphic>
          <a:graphicData uri="http://schemas.openxmlformats.org/drawingml/2006/table">
            <a:tbl>
              <a:tblPr/>
              <a:tblGrid>
                <a:gridCol w="3149640"/>
                <a:gridCol w="1789200"/>
                <a:gridCol w="1501560"/>
                <a:gridCol w="1789200"/>
              </a:tblGrid>
              <a:tr h="2648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должается работа по бесплатной передаче в собственность гражданам  муниципаль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жилищного фонда согласно ФЗ «О приватизации  жилищного  фонда в РФ»</a:t>
                      </a:r>
                      <a:r>
                        <a:rPr b="1" i="1" lang="ru-RU" sz="18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Приватизирова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оличество квартир (домов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щая площадь (кв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0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6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7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зыскание задолженности по арендной пла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981080"/>
          <a:ext cx="8229600" cy="3368880"/>
        </p:xfrm>
        <a:graphic>
          <a:graphicData uri="http://schemas.openxmlformats.org/drawingml/2006/table">
            <a:tbl>
              <a:tblPr/>
              <a:tblGrid>
                <a:gridCol w="1251000"/>
                <a:gridCol w="1492200"/>
                <a:gridCol w="1492200"/>
                <a:gridCol w="1251000"/>
                <a:gridCol w="1519200"/>
                <a:gridCol w="1224000"/>
              </a:tblGrid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правлено претензий арендатор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9600" rIns="7308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правлено исков в су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ынесено судебных реш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умма, тыс.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умма, тыс.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умма, тыс.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ъекты нежилого фо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6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емельные учас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0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0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66"/>
                </a:solidFill>
                <a:uFillTx/>
                <a:latin typeface="Times New Roman"/>
              </a:rPr>
              <a:t>Осуществляется приобретение жилых помещений для  детей-сирот, детей, оставшихся без попечения родителей в соответствии с наделенными государственными полномочиями</a:t>
            </a:r>
            <a:br>
              <a:rPr sz="2400"/>
            </a:b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Покупка жилых поме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229600" cy="3537000"/>
        </p:xfrm>
        <a:graphic>
          <a:graphicData uri="http://schemas.openxmlformats.org/drawingml/2006/table">
            <a:tbl>
              <a:tblPr/>
              <a:tblGrid>
                <a:gridCol w="3898800"/>
                <a:gridCol w="1300320"/>
                <a:gridCol w="1582560"/>
                <a:gridCol w="14479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Количество приобретенных жилых помеще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Сумма расходов                  (тыс. рубл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296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741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289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Средняя стоимость приобретенной 1 квартиры на торгах (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98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92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96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Информация о проведенных в рамках муниципального земельного контроля проверках и осмотрах, обследованиях земельных участк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4114800"/>
                <a:gridCol w="2243160"/>
                <a:gridCol w="187164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Количество проведенных плановых и внеплановых проверок земельных участков,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2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ыявлены нарушения земельного законодательства и должностными лицами муниципального земельного контроля выданы предписания об устранении нарушений или направлены материалы в уполномоченные органы для рассмотрения и принятия административных 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е выявлены нарушения земельного законодательств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Количество проведенных плановых (рейдовых) осмотров, обследований земельных участк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ыявлены нарушения земельного законодательства и должностными лицами муниципального контроля приняты в пределах компетенции меры по их пресеч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е выявлены нарушения земельного законода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роцент выявленных нарушений земельного законодательства (стр.1.1+стр.2.1)/(стр.1+стр.2)*100,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04-04T04:30:0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