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00C-8835-4300-B3C5-75EF5671C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985-302D-4DF2-A075-690F2C68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8B6-7972-4FF3-A1A1-535E81A2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5BA-7EBA-4C39-95D8-FE82FCF8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636B-130F-484C-8A17-646B5706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926A-B847-4F01-84E1-D0052054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DAF-90ED-4335-BBBD-43947E7B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0B49-2703-4D28-A42E-54B4A321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699-3C43-49E7-B6BA-9E05B5B2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6234-DC9A-46CB-9632-BF71C961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5807-C5DB-476D-8455-DA6FEB0D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240D-655D-4A23-A0E3-732217CC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B1AC-AE7E-4E6A-8214-4EA29755D1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3357360"/>
            <a:ext cx="885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Тема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Опыт интеграции медиации в образовательное пространство школы»</a:t>
            </a:r>
            <a:br>
              <a:rPr sz="32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Rectangle 2" descr=""/>
          <p:cNvPicPr/>
          <p:nvPr/>
        </p:nvPicPr>
        <p:blipFill>
          <a:blip r:embed="rId1"/>
          <a:stretch/>
        </p:blipFill>
        <p:spPr>
          <a:xfrm>
            <a:off x="4211640" y="334800"/>
            <a:ext cx="4896000" cy="147024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" descr=""/>
          <p:cNvPicPr/>
          <p:nvPr/>
        </p:nvPicPr>
        <p:blipFill>
          <a:blip r:embed="rId2"/>
          <a:stretch/>
        </p:blipFill>
        <p:spPr>
          <a:xfrm>
            <a:off x="2266920" y="5346720"/>
            <a:ext cx="4896000" cy="1468440"/>
          </a:xfrm>
          <a:prstGeom prst="rect">
            <a:avLst/>
          </a:prstGeom>
          <a:ln w="0">
            <a:noFill/>
          </a:ln>
        </p:spPr>
      </p:pic>
      <p:grpSp>
        <p:nvGrpSpPr>
          <p:cNvPr id="44" name="Группа 8"/>
          <p:cNvGrpSpPr/>
          <p:nvPr/>
        </p:nvGrpSpPr>
        <p:grpSpPr>
          <a:xfrm>
            <a:off x="-474840" y="0"/>
            <a:ext cx="4399200" cy="2274840"/>
            <a:chOff x="-474840" y="0"/>
            <a:chExt cx="4399200" cy="2274840"/>
          </a:xfrm>
        </p:grpSpPr>
        <p:pic>
          <p:nvPicPr>
            <p:cNvPr id="45" name="Picture 6" descr="C:\Users\Protopopov\Desktop\эмблема 95.png"/>
            <p:cNvPicPr/>
            <p:nvPr/>
          </p:nvPicPr>
          <p:blipFill>
            <a:blip r:embed="rId3"/>
            <a:stretch/>
          </p:blipFill>
          <p:spPr>
            <a:xfrm>
              <a:off x="376920" y="0"/>
              <a:ext cx="2199600" cy="18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Rectangle 3" descr=""/>
            <p:cNvPicPr/>
            <p:nvPr/>
          </p:nvPicPr>
          <p:blipFill>
            <a:blip r:embed="rId4"/>
            <a:stretch/>
          </p:blipFill>
          <p:spPr>
            <a:xfrm>
              <a:off x="-474840" y="1433520"/>
              <a:ext cx="4399200" cy="8413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Схема 4" descr=""/>
          <p:cNvPicPr/>
          <p:nvPr/>
        </p:nvPicPr>
        <p:blipFill>
          <a:blip r:embed="rId1"/>
          <a:stretch/>
        </p:blipFill>
        <p:spPr>
          <a:xfrm>
            <a:off x="60480" y="96840"/>
            <a:ext cx="8986680" cy="665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Protopopov\Desktop\эмблема 95.png"/>
          <p:cNvPicPr/>
          <p:nvPr/>
        </p:nvPicPr>
        <p:blipFill>
          <a:blip r:embed="rId2"/>
          <a:stretch/>
        </p:blipFill>
        <p:spPr>
          <a:xfrm>
            <a:off x="179280" y="30240"/>
            <a:ext cx="1316160" cy="146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2" descr="Y:\Психолог\Социально-психологическая служба примирения\ШСП\эмблема ШСП.jpg"/>
          <p:cNvPicPr/>
          <p:nvPr/>
        </p:nvPicPr>
        <p:blipFill>
          <a:blip r:embed="rId3"/>
          <a:stretch/>
        </p:blipFill>
        <p:spPr>
          <a:xfrm>
            <a:off x="7451640" y="192240"/>
            <a:ext cx="1501920" cy="1139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Управляющая кнопка: возврат 14">
            <a:hlinkClick r:id="" action="ppaction://hlinkshowjump?jump=previousslide"/>
          </p:cNvPr>
          <p:cNvSpPr/>
          <p:nvPr/>
        </p:nvSpPr>
        <p:spPr>
          <a:xfrm>
            <a:off x="7232760" y="6381720"/>
            <a:ext cx="1800000" cy="360360"/>
          </a:xfrm>
          <a:custGeom>
            <a:avLst/>
            <a:gdLst>
              <a:gd name="textAreaLeft" fmla="*/ 23040 w 1800000"/>
              <a:gd name="textAreaRight" fmla="*/ 1776960 w 18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06" h="21600">
                <a:moveTo>
                  <a:pt x="0" y="0"/>
                </a:moveTo>
                <a:lnTo>
                  <a:pt x="107806" y="0"/>
                </a:lnTo>
                <a:lnTo>
                  <a:pt x="107806" y="21600"/>
                </a:lnTo>
                <a:lnTo>
                  <a:pt x="0" y="21600"/>
                </a:lnTo>
                <a:close/>
              </a:path>
              <a:path fill="lightenLess" w="107806" h="21600">
                <a:moveTo>
                  <a:pt x="0" y="0"/>
                </a:moveTo>
                <a:lnTo>
                  <a:pt x="107806" y="0"/>
                </a:lnTo>
                <a:lnTo>
                  <a:pt x="106406" y="1400"/>
                </a:lnTo>
                <a:lnTo>
                  <a:pt x="1400" y="1400"/>
                </a:lnTo>
                <a:close/>
              </a:path>
              <a:path fill="darken" w="107806" h="21600">
                <a:moveTo>
                  <a:pt x="107806" y="0"/>
                </a:moveTo>
                <a:lnTo>
                  <a:pt x="107806" y="21600"/>
                </a:lnTo>
                <a:lnTo>
                  <a:pt x="106406" y="20200"/>
                </a:lnTo>
                <a:lnTo>
                  <a:pt x="106406" y="1400"/>
                </a:lnTo>
                <a:close/>
              </a:path>
              <a:path fill="darkenLess" w="107806" h="21600">
                <a:moveTo>
                  <a:pt x="107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06" y="20200"/>
                </a:lnTo>
                <a:close/>
              </a:path>
              <a:path fill="lighten" w="107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07806" h="21600">
                <a:moveTo>
                  <a:pt x="46897" y="7493"/>
                </a:moveTo>
                <a:lnTo>
                  <a:pt x="50404" y="7493"/>
                </a:lnTo>
                <a:lnTo>
                  <a:pt x="50404" y="12828"/>
                </a:lnTo>
                <a:cubicBezTo>
                  <a:pt x="50404" y="13751"/>
                  <a:pt x="51205" y="14482"/>
                  <a:pt x="52241" y="14482"/>
                </a:cubicBezTo>
                <a:lnTo>
                  <a:pt x="53903" y="14482"/>
                </a:lnTo>
                <a:cubicBezTo>
                  <a:pt x="54939" y="14482"/>
                  <a:pt x="55739" y="13751"/>
                  <a:pt x="55739" y="12828"/>
                </a:cubicBezTo>
                <a:lnTo>
                  <a:pt x="55739" y="7493"/>
                </a:lnTo>
                <a:lnTo>
                  <a:pt x="53903" y="7493"/>
                </a:lnTo>
                <a:lnTo>
                  <a:pt x="57411" y="3985"/>
                </a:lnTo>
                <a:lnTo>
                  <a:pt x="61084" y="7493"/>
                </a:lnTo>
                <a:lnTo>
                  <a:pt x="59247" y="7493"/>
                </a:lnTo>
                <a:lnTo>
                  <a:pt x="59247" y="12828"/>
                </a:lnTo>
                <a:cubicBezTo>
                  <a:pt x="59247" y="15596"/>
                  <a:pt x="56671" y="18155"/>
                  <a:pt x="53903" y="18155"/>
                </a:cubicBezTo>
                <a:lnTo>
                  <a:pt x="52241" y="18155"/>
                </a:lnTo>
                <a:cubicBezTo>
                  <a:pt x="49473" y="18155"/>
                  <a:pt x="46897" y="15596"/>
                  <a:pt x="46897" y="12828"/>
                </a:cubicBez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19440" y="1628280"/>
            <a:ext cx="88930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ущественно (более чем на 50%) снизить риски появления детско-подростковой жестокости и травли,        в том числе в сети Интернет (буллинг, кибербуллинг), снизить риски суицидаль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нять проблему повторных конфликтов на 95%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отвратить 95% формирующихся конфликтных ситуаций в начальной стад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недрить новые формы профилактики, снизить нагрузку на советы профилактики. Снизить количество неэффективных санкционных процедур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збавить школу от решения конфликтных ситуаций за пределами школы, от жалоб, судебных тяж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380360" y="-27000"/>
            <a:ext cx="1655640" cy="1836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-4176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интеграции медиации в образовательное пространство школы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о мнению идеологов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86920" y="1628280"/>
            <a:ext cx="889308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ущественно (более чем на 50%) снизить риски появления детско-подростковой жестокости и травли,        в том числе в сети Интернет (буллинг, кибербуллинг), снизить риски суицидальност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нять проблему повторных конфликтов на 95%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едотвратить 95% формирующихся конфликтных ситуаций в начальной стадии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недрить новые формы профилактики, снизить нагрузку на советы профилактики. Снизить количество неэффективных санкционных процедур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збавить школу от решения конфликтных ситуаций за пределами школы, от жалоб, судебных тяжб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380360" y="-27000"/>
            <a:ext cx="1655640" cy="1836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-4176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интеграции медиации в образовательное пространство школы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из опыта школы №95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User\Desktop\зеленая галочка.jpg"/>
          <p:cNvPicPr/>
          <p:nvPr/>
        </p:nvPicPr>
        <p:blipFill>
          <a:blip r:embed="rId2"/>
          <a:stretch/>
        </p:blipFill>
        <p:spPr>
          <a:xfrm>
            <a:off x="115920" y="1773360"/>
            <a:ext cx="512640" cy="982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User\Desktop\зеленая галочка.jpg"/>
          <p:cNvPicPr/>
          <p:nvPr/>
        </p:nvPicPr>
        <p:blipFill>
          <a:blip r:embed="rId3"/>
          <a:stretch/>
        </p:blipFill>
        <p:spPr>
          <a:xfrm>
            <a:off x="115920" y="4821120"/>
            <a:ext cx="512640" cy="982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C:\Users\User\Desktop\galochka.jpg"/>
          <p:cNvPicPr/>
          <p:nvPr/>
        </p:nvPicPr>
        <p:blipFill>
          <a:blip r:embed="rId4"/>
          <a:stretch/>
        </p:blipFill>
        <p:spPr>
          <a:xfrm>
            <a:off x="92160" y="3139920"/>
            <a:ext cx="547560" cy="981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galochka.jpg"/>
          <p:cNvPicPr/>
          <p:nvPr/>
        </p:nvPicPr>
        <p:blipFill>
          <a:blip r:embed="rId5"/>
          <a:stretch/>
        </p:blipFill>
        <p:spPr>
          <a:xfrm>
            <a:off x="92160" y="3859200"/>
            <a:ext cx="547560" cy="981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User\Desktop\galochka.jpg"/>
          <p:cNvPicPr/>
          <p:nvPr/>
        </p:nvPicPr>
        <p:blipFill>
          <a:blip r:embed="rId6"/>
          <a:stretch/>
        </p:blipFill>
        <p:spPr>
          <a:xfrm>
            <a:off x="92160" y="6095880"/>
            <a:ext cx="547560" cy="970200"/>
          </a:xfrm>
          <a:prstGeom prst="rect">
            <a:avLst/>
          </a:prstGeom>
          <a:ln w="0">
            <a:noFill/>
          </a:ln>
        </p:spPr>
      </p:pic>
      <p:sp>
        <p:nvSpPr>
          <p:cNvPr id="104" name="Управляющая кнопка: фильм 1"/>
          <p:cNvSpPr/>
          <p:nvPr/>
        </p:nvSpPr>
        <p:spPr>
          <a:xfrm>
            <a:off x="7885080" y="6405480"/>
            <a:ext cx="1224000" cy="408240"/>
          </a:xfrm>
          <a:custGeom>
            <a:avLst/>
            <a:gdLst>
              <a:gd name="textAreaLeft" fmla="*/ 26280 w 1224000"/>
              <a:gd name="textAreaRight" fmla="*/ 1197720 w 1224000"/>
              <a:gd name="textAreaTop" fmla="*/ 26280 h 408240"/>
              <a:gd name="textAreaBottom" fmla="*/ 381960 h 40824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7301"/>
                </a:moveTo>
                <a:lnTo>
                  <a:pt x="26269" y="7301"/>
                </a:lnTo>
                <a:lnTo>
                  <a:pt x="26652" y="7667"/>
                </a:lnTo>
                <a:lnTo>
                  <a:pt x="35861" y="7667"/>
                </a:lnTo>
                <a:lnTo>
                  <a:pt x="36418" y="8224"/>
                </a:lnTo>
                <a:lnTo>
                  <a:pt x="36418" y="8772"/>
                </a:lnTo>
                <a:lnTo>
                  <a:pt x="38263" y="8772"/>
                </a:lnTo>
                <a:lnTo>
                  <a:pt x="38629" y="8224"/>
                </a:lnTo>
                <a:lnTo>
                  <a:pt x="39368" y="8224"/>
                </a:lnTo>
                <a:lnTo>
                  <a:pt x="39368" y="13376"/>
                </a:lnTo>
                <a:lnTo>
                  <a:pt x="38629" y="13376"/>
                </a:lnTo>
                <a:lnTo>
                  <a:pt x="38263" y="12828"/>
                </a:lnTo>
                <a:lnTo>
                  <a:pt x="36418" y="12828"/>
                </a:lnTo>
                <a:lnTo>
                  <a:pt x="36418" y="14107"/>
                </a:lnTo>
                <a:lnTo>
                  <a:pt x="26835" y="14107"/>
                </a:lnTo>
                <a:lnTo>
                  <a:pt x="26835" y="9877"/>
                </a:lnTo>
                <a:lnTo>
                  <a:pt x="26652" y="9877"/>
                </a:lnTo>
                <a:lnTo>
                  <a:pt x="26269" y="10243"/>
                </a:lnTo>
                <a:lnTo>
                  <a:pt x="25355" y="10243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6560" y="3860280"/>
            <a:ext cx="7850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Группа 2"/>
          <p:cNvGrpSpPr/>
          <p:nvPr/>
        </p:nvGrpSpPr>
        <p:grpSpPr>
          <a:xfrm>
            <a:off x="-361800" y="189000"/>
            <a:ext cx="4398840" cy="2274840"/>
            <a:chOff x="-361800" y="189000"/>
            <a:chExt cx="4398840" cy="2274840"/>
          </a:xfrm>
        </p:grpSpPr>
        <p:pic>
          <p:nvPicPr>
            <p:cNvPr id="107" name="Picture 6" descr="C:\Users\Protopopov\Desktop\эмблема 95.png"/>
            <p:cNvPicPr/>
            <p:nvPr/>
          </p:nvPicPr>
          <p:blipFill>
            <a:blip r:embed="rId1"/>
            <a:stretch/>
          </p:blipFill>
          <p:spPr>
            <a:xfrm>
              <a:off x="491760" y="189000"/>
              <a:ext cx="2196000" cy="183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Rectangle 3" descr=""/>
            <p:cNvPicPr/>
            <p:nvPr/>
          </p:nvPicPr>
          <p:blipFill>
            <a:blip r:embed="rId2"/>
            <a:stretch/>
          </p:blipFill>
          <p:spPr>
            <a:xfrm>
              <a:off x="-361800" y="1622520"/>
              <a:ext cx="4398840" cy="84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7288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екст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7640" y="764640"/>
            <a:ext cx="889308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числа конфликтов в подростковой среде,                      среде проявлений жестокости, агрессии (буллинг, кибербуллинг и т.д.), суицидальности. Резкий рост правонаруш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объёмов миграции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количества семей, не уделяющих достаточно времени и внимания детя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ст уровня агрессии у взрослого насе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 социальной сфере новых методов работы с агрессией и правонарушениями в подростковой сред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у детей навыков цивилизованного разрешения конфликтов, выхода из сложных ситуац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у детей навыков саморегуляции и правильного реагирования в ситуациях агрессии извне (СМИ, улица, коллектив, Интернет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жесточение требований законодательства и повышение требований к современной школе и педагогу по вопросам соблюдения прав и интересов несовершеннолет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885080" y="-34920"/>
            <a:ext cx="117468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екст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22364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З «Об образовании в РФ»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т. 27 п. 2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ая стратегия действий в интересах детей на 2012 – 2017 г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ая программа «Развитие образования на 2013 – 2020 годы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тегия развития воспитания в РФ до 2025 г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Минобрнауки от 18.11.2013г., ВК- 844/07 «Об организации служб медиации в образовательных организациях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фессиональный стандарт педагог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омпетенции учи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236000" y="-27000"/>
            <a:ext cx="1823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240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екст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5640" y="2741400"/>
            <a:ext cx="8893080" cy="219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рыба начинается с головы, так и главным медиатором в школе должен быть директор»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вгений Александрович Ямбург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236000" y="25560"/>
            <a:ext cx="1823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сурс интегр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6320" y="2049120"/>
            <a:ext cx="8893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015 году на базе МБОУ Школа №95 созда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аевая инновационная площадка в области школьной медиаци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огласие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тратегия площад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от осознания - к принятию и осознан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сновная иде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создание безопасной образовательной среды посредством встраивания в школьный уклад жизни медиативных принципов и тех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236000" y="25560"/>
            <a:ext cx="18237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66320" y="136800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эт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глубокое решение конфли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а не поверхностное снятие конфликтной симптоматики, причём, в том числе, силами самих детей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.П. Велихов, академик Р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главно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точечное наказание, а предотвращ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 последствий и повторений конфликта»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Л.А. Вербицкая, президент РАО, академик РАО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подчас единственн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 восстановить социальную справедлив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адрес пострадавшей стороны, особенно в тех случаях, где возбуждение какого либо производства невозможно в силу возраста виновного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.В. Белова, директор гимназии №15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740720" y="-27000"/>
            <a:ext cx="1319040" cy="1463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2"/>
          <p:cNvSpPr/>
          <p:nvPr/>
        </p:nvSpPr>
        <p:spPr>
          <a:xfrm>
            <a:off x="-128520" y="66816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меди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66320" y="83628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Медиация в школе как никогда важна, особенно учитыва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сутствие навыков ассертивного повед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учащихся, в условиях роста агрессии в окружающей среде»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.А. Садовничий, ректор МГУ, академик РАН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пожалуй единственн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 предотвратить трагед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итуации усиления экстремистской среды в соц. сетях, в условиях буллинга и кибербуллинга»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А.А. Фурсенко, помощник Президент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… хороши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пособ сэкономить время педагога и школ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еодоление негативных последствий конфликта»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.В. Ященко, директор Центра педагогического мастерств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8101080" y="-27000"/>
            <a:ext cx="958680" cy="1063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-314280" y="4046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меди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07640" y="2131920"/>
            <a:ext cx="8893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диация (в широком смыс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уклад, основанный на принципах безопасной образовательной среды (эмпатия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диация (в узком смысл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– посредничество, альтернативная форма разрешения конфликта с участие третей нейтральной, беспристрастной стороны – меди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7632720" y="-27000"/>
            <a:ext cx="1427040" cy="158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-289080" y="91584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ше понимание школьной медиаци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19120" y="4428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раз модели интеграции медиации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Было (доработали)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         Н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1"/>
          <p:cNvSpPr/>
          <p:nvPr/>
        </p:nvSpPr>
        <p:spPr>
          <a:xfrm>
            <a:off x="87480" y="765000"/>
            <a:ext cx="4989240" cy="5400720"/>
          </a:xfrm>
          <a:custGeom>
            <a:avLst/>
            <a:gdLst>
              <a:gd name="textAreaLeft" fmla="*/ 243360 w 4989240"/>
              <a:gd name="textAreaRight" fmla="*/ 4745880 w 4989240"/>
              <a:gd name="textAreaTop" fmla="*/ 243360 h 5400720"/>
              <a:gd name="textAreaBottom" fmla="*/ 5157360 h 5400720"/>
            </a:gdLst>
            <a:ahLst/>
            <a:rect l="textAreaLeft" t="textAreaTop" r="textAreaRight" b="textAreaBottom"/>
            <a:pathLst>
              <a:path w="21600" h="23381">
                <a:moveTo>
                  <a:pt x="3600" y="0"/>
                </a:moveTo>
                <a:arcTo wR="3600" hR="3600" stAng="16200000" swAng="-5400000"/>
                <a:lnTo>
                  <a:pt x="0" y="19781"/>
                </a:lnTo>
                <a:arcTo wR="3600" hR="3600" stAng="10800000" swAng="-5400000"/>
                <a:lnTo>
                  <a:pt x="18000" y="2338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4"/>
          <p:cNvGrpSpPr/>
          <p:nvPr/>
        </p:nvGrpSpPr>
        <p:grpSpPr>
          <a:xfrm>
            <a:off x="406440" y="836640"/>
            <a:ext cx="3949560" cy="1187280"/>
            <a:chOff x="406440" y="836640"/>
            <a:chExt cx="3949560" cy="1187280"/>
          </a:xfrm>
        </p:grpSpPr>
        <p:sp>
          <p:nvSpPr>
            <p:cNvPr id="71" name="Прямоугольник 2"/>
            <p:cNvSpPr/>
            <p:nvPr/>
          </p:nvSpPr>
          <p:spPr>
            <a:xfrm>
              <a:off x="755640" y="836640"/>
              <a:ext cx="3313080" cy="36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клад – «Прояви лучшее!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Стрелка вниз 3"/>
            <p:cNvSpPr/>
            <p:nvPr/>
          </p:nvSpPr>
          <p:spPr>
            <a:xfrm>
              <a:off x="2556000" y="1015920"/>
              <a:ext cx="133200" cy="323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80298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оугольник 7"/>
            <p:cNvSpPr/>
            <p:nvPr/>
          </p:nvSpPr>
          <p:spPr>
            <a:xfrm>
              <a:off x="406440" y="1555560"/>
              <a:ext cx="3949560" cy="36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через возможности безопасной образовательной сре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Стрелка вниз 8"/>
            <p:cNvSpPr/>
            <p:nvPr/>
          </p:nvSpPr>
          <p:spPr>
            <a:xfrm>
              <a:off x="828720" y="1700280"/>
              <a:ext cx="133200" cy="3236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380298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Стрелка вниз 9"/>
            <p:cNvSpPr/>
            <p:nvPr/>
          </p:nvSpPr>
          <p:spPr>
            <a:xfrm>
              <a:off x="3908520" y="1700280"/>
              <a:ext cx="134640" cy="323640"/>
            </a:xfrm>
            <a:prstGeom prst="downArrow">
              <a:avLst>
                <a:gd name="adj1" fmla="val 50000"/>
                <a:gd name="adj2" fmla="val 50056"/>
              </a:avLst>
            </a:prstGeom>
            <a:solidFill>
              <a:srgbClr val="380298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Прямоугольник 12"/>
          <p:cNvSpPr/>
          <p:nvPr/>
        </p:nvSpPr>
        <p:spPr>
          <a:xfrm>
            <a:off x="2554200" y="2852640"/>
            <a:ext cx="25225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о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рганы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бщественного управления и самоуправления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Управляющий совет, Фонд развития, Совет соуправления учащихся, совет капитан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Молодёжные организаци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: НОУ «Эрудит», поисковый отряд,  клуб экскурсоводов, пресс-центр, ДЮП, ЮИД и т.д.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Школа проектов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возможность для социально-проектного творчества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ружки, секци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разной направленности: шахматы, видео-монтаж, хореография, вокал, коньки, стрельба, волейбол и т.д. 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Совет профилактик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Конфликтная комиссия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0"/>
          <p:cNvSpPr/>
          <p:nvPr/>
        </p:nvSpPr>
        <p:spPr>
          <a:xfrm>
            <a:off x="108000" y="3068640"/>
            <a:ext cx="25225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держа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оздание для каждого ребёнка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ситуации успеха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(личностного и социального) через: уроки, доп. образование, участие в общественных организациях, в конкурсах, акциях и т.д., через привлечение ресурсов организаций – партнёров (уч-я доп. образования и т.д.), через взаимодействие с родительской обще-ю и обществ-ю микрорайона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Делегирование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части управленческих полномочий и использовани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нелинейного управления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силение в воспитательной компонент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гражданского и патриотического направлений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, общекультурной терпимост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13"/>
          <p:cNvSpPr/>
          <p:nvPr/>
        </p:nvSpPr>
        <p:spPr>
          <a:xfrm>
            <a:off x="5214960" y="747720"/>
            <a:ext cx="3844800" cy="5400720"/>
          </a:xfrm>
          <a:custGeom>
            <a:avLst/>
            <a:gdLst>
              <a:gd name="textAreaLeft" fmla="*/ 187560 w 3844800"/>
              <a:gd name="textAreaRight" fmla="*/ 3657240 w 3844800"/>
              <a:gd name="textAreaTop" fmla="*/ 187560 h 5400720"/>
              <a:gd name="textAreaBottom" fmla="*/ 5213160 h 5400720"/>
            </a:gdLst>
            <a:ahLst/>
            <a:rect l="textAreaLeft" t="textAreaTop" r="textAreaRight" b="textAreaBottom"/>
            <a:pathLst>
              <a:path w="21600" h="30340">
                <a:moveTo>
                  <a:pt x="3600" y="0"/>
                </a:moveTo>
                <a:arcTo wR="3600" hR="3600" stAng="16200000" swAng="-5400000"/>
                <a:lnTo>
                  <a:pt x="0" y="26740"/>
                </a:lnTo>
                <a:arcTo wR="3600" hR="3600" stAng="10800000" swAng="-5400000"/>
                <a:lnTo>
                  <a:pt x="18000" y="303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Protopopov\Desktop\эмблема 95.png"/>
          <p:cNvPicPr/>
          <p:nvPr/>
        </p:nvPicPr>
        <p:blipFill>
          <a:blip r:embed="rId1"/>
          <a:stretch/>
        </p:blipFill>
        <p:spPr>
          <a:xfrm>
            <a:off x="4716360" y="671400"/>
            <a:ext cx="959040" cy="10652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5"/>
          <p:cNvSpPr/>
          <p:nvPr/>
        </p:nvSpPr>
        <p:spPr>
          <a:xfrm>
            <a:off x="5675400" y="907920"/>
            <a:ext cx="3217680" cy="55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новационная площад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асноярского края в области школьной медиац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оглас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трелка вниз 21"/>
          <p:cNvSpPr/>
          <p:nvPr/>
        </p:nvSpPr>
        <p:spPr>
          <a:xfrm>
            <a:off x="6156360" y="1592280"/>
            <a:ext cx="133200" cy="324000"/>
          </a:xfrm>
          <a:prstGeom prst="downArrow">
            <a:avLst>
              <a:gd name="adj1" fmla="val 50000"/>
              <a:gd name="adj2" fmla="val 50079"/>
            </a:avLst>
          </a:prstGeom>
          <a:solidFill>
            <a:srgbClr val="38029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низ 22"/>
          <p:cNvSpPr/>
          <p:nvPr/>
        </p:nvSpPr>
        <p:spPr>
          <a:xfrm>
            <a:off x="8305920" y="1592280"/>
            <a:ext cx="133200" cy="324000"/>
          </a:xfrm>
          <a:prstGeom prst="downArrow">
            <a:avLst>
              <a:gd name="adj1" fmla="val 50000"/>
              <a:gd name="adj2" fmla="val 50079"/>
            </a:avLst>
          </a:prstGeom>
          <a:solidFill>
            <a:srgbClr val="38029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авая фигурная скобка 11"/>
          <p:cNvSpPr/>
          <p:nvPr/>
        </p:nvSpPr>
        <p:spPr>
          <a:xfrm rot="5400000">
            <a:off x="4609080" y="2513520"/>
            <a:ext cx="330120" cy="7761240"/>
          </a:xfrm>
          <a:custGeom>
            <a:avLst/>
            <a:gdLst>
              <a:gd name="textAreaLeft" fmla="*/ 0 w 330120"/>
              <a:gd name="textAreaRight" fmla="*/ 119160 w 330120"/>
              <a:gd name="textAreaTop" fmla="*/ 0 h 7761240"/>
              <a:gd name="textAreaBottom" fmla="*/ 7761600 h 776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91"/>
                </a:lnTo>
                <a:cubicBezTo>
                  <a:pt x="10800" y="10891"/>
                  <a:pt x="16200" y="10891"/>
                  <a:pt x="21600" y="10891"/>
                </a:cubicBezTo>
                <a:cubicBezTo>
                  <a:pt x="16200" y="10891"/>
                  <a:pt x="10800" y="10891"/>
                  <a:pt x="10800" y="10891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755640" y="6669000"/>
            <a:ext cx="8229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диация в школе № 9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20"/>
          <p:cNvSpPr/>
          <p:nvPr/>
        </p:nvSpPr>
        <p:spPr>
          <a:xfrm>
            <a:off x="87480" y="692280"/>
            <a:ext cx="8972280" cy="5537160"/>
          </a:xfrm>
          <a:prstGeom prst="rect">
            <a:avLst/>
          </a:prstGeom>
          <a:noFill/>
          <a:ln w="2556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6"/>
          <p:cNvSpPr/>
          <p:nvPr/>
        </p:nvSpPr>
        <p:spPr>
          <a:xfrm>
            <a:off x="5219640" y="3213000"/>
            <a:ext cx="187956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держательные нов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кураторов и медиаторов ШСМ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дени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примирительных процедур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дение уроков и занятий по конструктивному общению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дение «добрых» акций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ост числа выявленных конфликтов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нижение числа конфликтов, решаемых за пределами школы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учение медиации учителей и заинт-х родител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27"/>
          <p:cNvSpPr/>
          <p:nvPr/>
        </p:nvSpPr>
        <p:spPr>
          <a:xfrm>
            <a:off x="7164360" y="3284640"/>
            <a:ext cx="1878120" cy="22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рганизационные нов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  <a:hlinkClick r:id="rId2" action="ppaction://hlinksldjump"/>
              </a:rPr>
              <a:t>Создание Школьной службы медиа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зменение в образовательной программе (уроки по констр-му общению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ыделение часов на доп-е занятия по конструктивному общению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пределение механизма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заимодействия с КК ИПКРО и КРМОО «Центр «Сотрудничество»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зработка идеи создания сети ШСМ для супервизии и совершенствования работы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люс 6"/>
          <p:cNvSpPr/>
          <p:nvPr/>
        </p:nvSpPr>
        <p:spPr>
          <a:xfrm>
            <a:off x="4932360" y="357336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57235" y="165120"/>
                </a:moveTo>
                <a:lnTo>
                  <a:pt x="165120" y="165120"/>
                </a:lnTo>
                <a:lnTo>
                  <a:pt x="165120" y="57235"/>
                </a:lnTo>
                <a:lnTo>
                  <a:pt x="266680" y="57235"/>
                </a:lnTo>
                <a:lnTo>
                  <a:pt x="266680" y="165120"/>
                </a:lnTo>
                <a:lnTo>
                  <a:pt x="374565" y="165120"/>
                </a:lnTo>
                <a:lnTo>
                  <a:pt x="374565" y="266680"/>
                </a:lnTo>
                <a:lnTo>
                  <a:pt x="266680" y="266680"/>
                </a:lnTo>
                <a:lnTo>
                  <a:pt x="266680" y="374565"/>
                </a:lnTo>
                <a:lnTo>
                  <a:pt x="165120" y="374565"/>
                </a:lnTo>
                <a:lnTo>
                  <a:pt x="165120" y="266680"/>
                </a:lnTo>
                <a:lnTo>
                  <a:pt x="57235" y="266680"/>
                </a:lnTo>
                <a:lnTo>
                  <a:pt x="57235" y="165120"/>
                </a:lnTo>
                <a:close/>
              </a:path>
            </a:pathLst>
          </a:custGeom>
          <a:solidFill>
            <a:srgbClr val="2c079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2:29:04Z</dcterms:created>
  <dc:creator>User</dc:creator>
  <dc:description/>
  <dc:language>en-US</dc:language>
  <cp:lastModifiedBy>Протопопов Д.В.</cp:lastModifiedBy>
  <cp:lastPrinted>2016-10-11T04:18:14Z</cp:lastPrinted>
  <dcterms:modified xsi:type="dcterms:W3CDTF">2016-10-27T06:43:21Z</dcterms:modified>
  <cp:revision>162</cp:revision>
  <dc:subject/>
  <dc:title>Мы рады Вас приветствовать!</dc:title>
</cp:coreProperties>
</file>