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331450" cy="82073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F18-960B-4186-91EC-3AF9A6E5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33A-5A93-4E64-89B2-A1867B5C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648-F1F3-4AC3-AF22-9212A416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121-8A25-4BBA-99FF-9726E6AD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39E-BD00-4DD7-AC88-FF8E9374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09F-7B6B-49E2-9175-C6F86DA2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7B3-374C-49D4-B480-0A8562A1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B05-3573-4008-B787-914053B8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66C-41B5-4D1A-9848-1D67CBA2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503-7173-4642-A260-52F07C93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94D-EA8A-4F95-AD73-2134F8A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158-C783-4184-BB19-2EA45ED3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D1E9-99C5-492D-A769-B7114FBB6697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ia.ru/society/20151112/1319070958.html" TargetMode="External"/><Relationship Id="rId2" Type="http://schemas.openxmlformats.org/officeDocument/2006/relationships/hyperlink" Target="http://www.ntv.ru/novosti/1567296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8" descr="\\10.21.26.61\share\обмен\рус план.jpg"/>
          <p:cNvPicPr/>
          <p:nvPr/>
        </p:nvPicPr>
        <p:blipFill>
          <a:blip r:embed="rId1"/>
          <a:stretch/>
        </p:blipFill>
        <p:spPr>
          <a:xfrm>
            <a:off x="5167440" y="4105440"/>
            <a:ext cx="5167080" cy="41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Picture 67" descr="\\10.21.26.61\share\обмен\форбс.jpg"/>
          <p:cNvPicPr/>
          <p:nvPr/>
        </p:nvPicPr>
        <p:blipFill>
          <a:blip r:embed="rId2"/>
          <a:stretch/>
        </p:blipFill>
        <p:spPr>
          <a:xfrm>
            <a:off x="5138640" y="7920"/>
            <a:ext cx="5194440" cy="409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66" descr="\\10.21.26.61\share\обмен\риа.jpg"/>
          <p:cNvPicPr/>
          <p:nvPr/>
        </p:nvPicPr>
        <p:blipFill>
          <a:blip r:embed="rId3"/>
          <a:stretch/>
        </p:blipFill>
        <p:spPr>
          <a:xfrm>
            <a:off x="0" y="7920"/>
            <a:ext cx="5167440" cy="40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Picture 65" descr="\\10.21.26.61\share\обмен\нтв.jpg"/>
          <p:cNvPicPr/>
          <p:nvPr/>
        </p:nvPicPr>
        <p:blipFill>
          <a:blip r:embed="rId4"/>
          <a:stretch/>
        </p:blipFill>
        <p:spPr>
          <a:xfrm>
            <a:off x="0" y="4105440"/>
            <a:ext cx="5167440" cy="41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34920" y="2521080"/>
            <a:ext cx="10152000" cy="31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ia.ru/society/20151112/1319070958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tv.ru/novosti/1567296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www.forbes.ru/news/305473-pravitelstvo-zapretilo-zhech-sukhuyu-travu-na-polyak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rusplt.ru/news/pravitelstvo-rf-zapretit-pal-travyi-na-zemlyah-selhoznaznacheniya-44189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0" y="0"/>
            <a:ext cx="10333080" cy="10688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-ссыл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овост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06:21:24Z</dcterms:created>
  <dc:creator>Администратор</dc:creator>
  <dc:description/>
  <dc:language>en-US</dc:language>
  <cp:lastModifiedBy>Роман Сергеевич Провоторов</cp:lastModifiedBy>
  <cp:lastPrinted>2015-10-30T07:25:38Z</cp:lastPrinted>
  <dcterms:modified xsi:type="dcterms:W3CDTF">2015-11-12T08:18:03Z</dcterms:modified>
  <cp:revision>468</cp:revision>
  <dc:subject/>
  <dc:title>Слайд 1</dc:title>
</cp:coreProperties>
</file>