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331450" cy="82073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9DB8-2018-4BDC-B72E-DDDDB395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520" y="474552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0959-EE19-4A8F-A255-36B15FC4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8156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13F-BC1E-49B2-BC91-0C97BD85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048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544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52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048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0544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7A1-82A9-4C53-BC9D-7CB0CEE0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260C-470B-40C7-BBED-37641204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F8F7-704E-4DD0-A716-C9CB2A38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EE2A-14B4-4F3F-90F2-6BA0E407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7A58-1A6E-41AD-B0C2-74567867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520" y="328320"/>
            <a:ext cx="9301320" cy="63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BE8E-E494-4B97-A06F-026FB0B5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CE5A-1321-445F-900C-AF10FDAF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8156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0C4F-B640-41C0-AD33-43B98064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8B10-F6A5-417C-B08C-ED27A42C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6720" indent="-396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01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54360" indent="-2653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7475040"/>
            <a:ext cx="24116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0160" y="7475040"/>
            <a:ext cx="32720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05200" y="7475040"/>
            <a:ext cx="24116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0531-1826-4F62-9883-1C7B3AB829F0}" type="slidenum">
              <a:rPr b="0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ia.ru/society/20151112/1319070958.html" TargetMode="External"/><Relationship Id="rId2" Type="http://schemas.openxmlformats.org/officeDocument/2006/relationships/hyperlink" Target="http://www.ntv.ru/novosti/1567296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8" descr="\\10.21.26.61\share\обмен\рус план.jpg"/>
          <p:cNvPicPr/>
          <p:nvPr/>
        </p:nvPicPr>
        <p:blipFill>
          <a:blip r:embed="rId1"/>
          <a:stretch/>
        </p:blipFill>
        <p:spPr>
          <a:xfrm>
            <a:off x="5167440" y="4105440"/>
            <a:ext cx="5167080" cy="410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" name="Picture 67" descr="\\10.21.26.61\share\обмен\форбс.jpg"/>
          <p:cNvPicPr/>
          <p:nvPr/>
        </p:nvPicPr>
        <p:blipFill>
          <a:blip r:embed="rId2"/>
          <a:stretch/>
        </p:blipFill>
        <p:spPr>
          <a:xfrm>
            <a:off x="5138640" y="7920"/>
            <a:ext cx="5194440" cy="409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Picture 66" descr="\\10.21.26.61\share\обмен\риа.jpg"/>
          <p:cNvPicPr/>
          <p:nvPr/>
        </p:nvPicPr>
        <p:blipFill>
          <a:blip r:embed="rId3"/>
          <a:stretch/>
        </p:blipFill>
        <p:spPr>
          <a:xfrm>
            <a:off x="0" y="7920"/>
            <a:ext cx="5167440" cy="409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Picture 65" descr="\\10.21.26.61\share\обмен\нтв.jpg"/>
          <p:cNvPicPr/>
          <p:nvPr/>
        </p:nvPicPr>
        <p:blipFill>
          <a:blip r:embed="rId4"/>
          <a:stretch/>
        </p:blipFill>
        <p:spPr>
          <a:xfrm>
            <a:off x="0" y="4105440"/>
            <a:ext cx="5167440" cy="410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34920" y="2521080"/>
            <a:ext cx="10152000" cy="31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ia.ru/society/20151112/1319070958.htm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tv.ru/novosti/1567296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www.forbes.ru/news/305473-pravitelstvo-zapretilo-zhech-sukhuyu-travu-na-polyak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rusplt.ru/news/pravitelstvo-rf-zapretit-pal-travyi-na-zemlyah-selhoznaznacheniya-44189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0" y="0"/>
            <a:ext cx="10333080" cy="106884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нет-ссыл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новостные ист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8T06:21:24Z</dcterms:created>
  <dc:creator>Администратор</dc:creator>
  <dc:description/>
  <dc:language>en-US</dc:language>
  <cp:lastModifiedBy>Роман Сергеевич Провоторов</cp:lastModifiedBy>
  <cp:lastPrinted>2015-10-30T07:25:38Z</cp:lastPrinted>
  <dcterms:modified xsi:type="dcterms:W3CDTF">2015-11-12T08:18:03Z</dcterms:modified>
  <cp:revision>468</cp:revision>
  <dc:subject/>
  <dc:title>Слайд 1</dc:title>
</cp:coreProperties>
</file>