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8459-B445-44C1-A28D-50151B410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80DE-FA17-459E-B393-21113C4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4F5-97F1-4497-81D3-A3EBA584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C96-8184-445D-A3DC-D12E816A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16BE-0081-4B41-BD40-35F65791B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F43-3CD6-4EA6-B434-E446348E3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5659-48BE-4287-BBAE-19EFB53D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A65E6-CDA5-47AD-A4DC-300BBCBCF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010D-0E72-4CF4-9C5A-D290F18B3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6386E-66A5-41A3-80A1-BE7F401A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A7C4-19CE-49C7-8EC1-69BC0142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1AE-3013-4FED-8A70-E5A0BF57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00EC-45DB-46E2-9433-D5A370D6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621A-3AA4-4FD0-A8CB-9638CBBE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BC16-37D4-4EB8-B773-CF79EB7E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2E428-349C-4030-9771-F2341814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0484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352480" y="160956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561FA-5463-4A44-82A9-BB7C29DB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A22-DA7A-4CD2-BD96-55AF45DCC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8794-B9C4-4EFC-B08E-99A01518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0284-AE8E-4CE5-98C5-12DF524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040"/>
            <a:ext cx="72385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5A1F-2708-4706-B0EB-1A174342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EA6-1017-49E4-AF57-56F9CF11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484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B672-DCB2-4A10-A2DF-39E589E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560"/>
            <a:ext cx="35323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520" cy="23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4B2F-003E-4E8B-BDE3-ECA01247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1a1a1"/>
            </a:gs>
          </a:gsLst>
          <a:path path="circle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 hidden="1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1" name="Прямоугольник 7"/>
          <p:cNvSpPr/>
          <p:nvPr/>
        </p:nvSpPr>
        <p:spPr>
          <a:xfrm flipH="1">
            <a:off x="2666160" y="0"/>
            <a:ext cx="6476760" cy="6857640"/>
          </a:xfrm>
          <a:prstGeom prst="rect">
            <a:avLst/>
          </a:prstGeom>
          <a:blipFill rotWithShape="0">
            <a:blip r:embed="rId3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50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V="1">
            <a:off x="2666880" y="0"/>
            <a:ext cx="360" cy="6858000"/>
          </a:xfrm>
          <a:prstGeom prst="line">
            <a:avLst/>
          </a:prstGeom>
          <a:ln w="11430">
            <a:solidFill>
              <a:srgbClr val="ffffff">
                <a:shade val="9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366720" y="533520"/>
            <a:ext cx="5105160" cy="286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2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58712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2819520" y="6558120"/>
            <a:ext cx="292752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788076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44498B-2D0F-475C-829C-45D93D306AAA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Third Outline Level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8"/>
          <p:cNvSpPr/>
          <p:nvPr/>
        </p:nvSpPr>
        <p:spPr>
          <a:xfrm flipH="1">
            <a:off x="8152560" y="0"/>
            <a:ext cx="990360" cy="6857640"/>
          </a:xfrm>
          <a:prstGeom prst="rect">
            <a:avLst/>
          </a:prstGeom>
          <a:blipFill rotWithShape="0">
            <a:blip r:embed="rId2">
              <a:alphaModFix amt="43000"/>
            </a:blip>
            <a:srcRect/>
            <a:tile tx="0" ty="0" sx="49970" sy="49970" algn="tl"/>
          </a:blipFill>
          <a:ln w="0">
            <a:noFill/>
          </a:ln>
          <a:effectLst>
            <a:innerShdw blurRad="63500" dir="10800000" dist="44450">
              <a:srgbClr val="000000">
                <a:alpha val="45000"/>
              </a:srgbClr>
            </a:inn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Образец заголовка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9560"/>
            <a:ext cx="7238520" cy="48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1280" indent="-228600">
              <a:lnSpc>
                <a:spcPct val="100000"/>
              </a:lnSpc>
              <a:spcBef>
                <a:spcPts val="499"/>
              </a:spcBef>
              <a:buClr>
                <a:srgbClr val="68007f"/>
              </a:buClr>
              <a:buSzPct val="80000"/>
              <a:buFont typeface="Wingdings 2" charset="2"/>
              <a:buChar char=""/>
            </a:pPr>
            <a:r>
              <a:rPr b="0" lang="ru-RU" sz="2300" spc="-1" strike="noStrike">
                <a:solidFill>
                  <a:srgbClr val="6f6f6f"/>
                </a:solidFill>
                <a:latin typeface="Trebuchet MS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68007f"/>
              </a:buClr>
              <a:buSzPct val="60000"/>
              <a:buFont typeface="Wingdings" charset="2"/>
              <a:buChar char=""/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Третий уровень</a:t>
            </a:r>
            <a:endParaRPr b="0" lang="ru-RU" sz="2000" spc="-1" strike="noStrike">
              <a:solidFill>
                <a:srgbClr val="6f6f6f"/>
              </a:solidFill>
              <a:latin typeface="Trebuchet MS"/>
            </a:endParaRPr>
          </a:p>
          <a:p>
            <a:pPr lvl="3" marL="1005840" indent="-228600">
              <a:lnSpc>
                <a:spcPct val="100000"/>
              </a:lnSpc>
              <a:spcBef>
                <a:spcPts val="400"/>
              </a:spcBef>
              <a:buClr>
                <a:srgbClr val="68007f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6f6f6f"/>
                </a:solidFill>
                <a:latin typeface="Trebuchet MS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280160" indent="-228600">
              <a:lnSpc>
                <a:spcPct val="100000"/>
              </a:lnSpc>
              <a:spcBef>
                <a:spcPts val="400"/>
              </a:spcBef>
              <a:buClr>
                <a:srgbClr val="68007f"/>
              </a:buClr>
              <a:buSzPct val="70000"/>
              <a:buFont typeface="Wingdings" charset="2"/>
              <a:buChar char=""/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245840" y="6558120"/>
            <a:ext cx="2001960" cy="2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666666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558120"/>
            <a:ext cx="3657240" cy="22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251400" y="6556320"/>
            <a:ext cx="587880" cy="22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100" spc="-1" strike="noStrike">
                <a:solidFill>
                  <a:srgbClr val="6666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D67D59-2452-44E4-8D03-00039FD9D949}" type="slidenum">
              <a:rPr b="0" lang="ru-RU" sz="1100" spc="-1" strike="noStrike">
                <a:solidFill>
                  <a:srgbClr val="666666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386520" y="1884960"/>
            <a:ext cx="5257080" cy="190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6000" spc="-1" strike="noStrike" cap="all">
                <a:solidFill>
                  <a:srgbClr val="ffff00"/>
                </a:solidFill>
                <a:latin typeface="Trebuchet MS"/>
              </a:rPr>
              <a:t>НАРКОМАНИЯ</a:t>
            </a:r>
            <a:endParaRPr b="0" lang="ru-RU" sz="6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14280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5"/>
          <p:cNvSpPr/>
          <p:nvPr/>
        </p:nvSpPr>
        <p:spPr>
          <a:xfrm>
            <a:off x="7286760" y="0"/>
            <a:ext cx="1856880" cy="6857640"/>
          </a:xfrm>
          <a:prstGeom prst="rect">
            <a:avLst/>
          </a:prstGeom>
          <a:gradFill rotWithShape="0">
            <a:gsLst>
              <a:gs pos="0">
                <a:srgbClr val="a28dac"/>
              </a:gs>
              <a:gs pos="100000">
                <a:srgbClr val="6d3780"/>
              </a:gs>
            </a:gsLst>
            <a:lin ang="5400000"/>
          </a:gradFill>
          <a:ln>
            <a:solidFill>
              <a:srgbClr val="68007f"/>
            </a:solidFill>
            <a:round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Trebuchet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7238520" cy="60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Наркомания в мире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214200" y="1024560"/>
            <a:ext cx="4428720" cy="527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Мир наркоманов сегодня прибли-зился к каждому из нас. Все чаще мы говорим о них, все чаще встречаем, читаем в прессе, слышим о трагедиях, произошедших в семьях знакомых, виной которых стали наркотики. Особое беспокойство вызывает тот факт, что у наркомании – “молодое лицо”. Основное число людей, потребляющих наркотики, сейчас составляет подрастающее поколение – молодые люди в возрасте от 14 до 30 ле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700" spc="-1" strike="noStrike">
                <a:solidFill>
                  <a:srgbClr val="00b0f0"/>
                </a:solidFill>
                <a:latin typeface="Arial"/>
                <a:ea typeface="Times New Roman"/>
              </a:rPr>
              <a:t>Наркотики – не просто вещества, наносящие вред здоровью.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Они стремительно и необратимо разрушают организм и личность человека. Потребление наркотиков, став частью молодежного досуга, увлечений, захватывает все новые клубы, дискотеки, учебные заведения, двор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7286760" y="857160"/>
            <a:ext cx="1856880" cy="51433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643280" y="1500120"/>
            <a:ext cx="2571480" cy="4266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Что такое наркомания?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Rectangle 1"/>
          <p:cNvSpPr/>
          <p:nvPr/>
        </p:nvSpPr>
        <p:spPr>
          <a:xfrm>
            <a:off x="214200" y="1459440"/>
            <a:ext cx="5500440" cy="520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b0f0"/>
                </a:solidFill>
                <a:latin typeface="Arial"/>
                <a:ea typeface="Times New Roman"/>
              </a:rPr>
              <a:t>Наркомания - хроническое прогредиентное заболевание, вызванное употреблением веществ-наркотик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Законами РФ наркомания определяется как «заболевание, обусловленное зависимостью от наркотических средств или психотропных веществ, включенных в Перечень наркотических средств, психотропных веществ и их прекурсоров, подлежащих контролю в Российской Федерации». Соответственно, патологическую зависимость от алкоголя, табака, или кофеина юридически не причисляют к наркомании, хотя и они, по ряду критериев, относятся к наркотическим веществам. Медицина рассматривает зависимость от этих веществ как наркотическую. В связи с этим, патологическую зависимость от данных веществ выделяют в отдельные группы, для алкоголя это — алкоголизм, для табака — никотиновая зависимость, только злоупотребление кофеином относится в наркологии к той же группе, что и злоупотребление прочими стимуляторами, и не выделяется отде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 rot="210600">
            <a:off x="5857920" y="1071360"/>
            <a:ext cx="2934000" cy="4142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39000">
            <a:off x="5931360" y="4540680"/>
            <a:ext cx="3028680" cy="20570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Какие бывают наркотики?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5857920" y="4429080"/>
            <a:ext cx="3047760" cy="228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5786280" y="785880"/>
            <a:ext cx="3047760" cy="22856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00" name="Picture 2" descr=""/>
          <p:cNvPicPr/>
          <p:nvPr/>
        </p:nvPicPr>
        <p:blipFill>
          <a:blip r:embed="rId3"/>
          <a:stretch/>
        </p:blipFill>
        <p:spPr>
          <a:xfrm>
            <a:off x="5286240" y="2428920"/>
            <a:ext cx="2857320" cy="25855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01" name="Прямоугольник 6"/>
          <p:cNvSpPr/>
          <p:nvPr/>
        </p:nvSpPr>
        <p:spPr>
          <a:xfrm>
            <a:off x="285840" y="928800"/>
            <a:ext cx="514332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аркотики бывают естественного происхож-дения, известные с древности (марихуана, гашиш, опиум, конопля), и синтетические, т. е. добытые химическим путем. В качестве наркотиков иногда используются лекарственные вещества психот-ропной групп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571320" y="257184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rebuchet MS"/>
              </a:rPr>
              <a:t>Врачи подразделяют наркотики на несколько груп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Группа 28"/>
          <p:cNvGrpSpPr/>
          <p:nvPr/>
        </p:nvGrpSpPr>
        <p:grpSpPr>
          <a:xfrm>
            <a:off x="214200" y="3571920"/>
            <a:ext cx="2273040" cy="536040"/>
            <a:chOff x="214200" y="3571920"/>
            <a:chExt cx="2273040" cy="536040"/>
          </a:xfrm>
        </p:grpSpPr>
        <p:grpSp>
          <p:nvGrpSpPr>
            <p:cNvPr id="104" name="Group 8"/>
            <p:cNvGrpSpPr/>
            <p:nvPr/>
          </p:nvGrpSpPr>
          <p:grpSpPr>
            <a:xfrm>
              <a:off x="214200" y="3571920"/>
              <a:ext cx="2273040" cy="536040"/>
              <a:chOff x="214200" y="3571920"/>
              <a:chExt cx="2273040" cy="536040"/>
            </a:xfrm>
          </p:grpSpPr>
          <p:sp>
            <p:nvSpPr>
              <p:cNvPr id="105" name="AutoShape 9"/>
              <p:cNvSpPr/>
              <p:nvPr/>
            </p:nvSpPr>
            <p:spPr>
              <a:xfrm>
                <a:off x="214200" y="357192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chemeClr val="accent5">
                  <a:lumMod val="60000"/>
                  <a:lumOff val="40000"/>
                </a:schemeClr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06" name="AutoShape 10"/>
              <p:cNvSpPr/>
              <p:nvPr/>
            </p:nvSpPr>
            <p:spPr>
              <a:xfrm>
                <a:off x="249480" y="360432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chemeClr val="accent5">
                  <a:lumMod val="60000"/>
                  <a:lumOff val="4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07" name="Text Box 31"/>
            <p:cNvSpPr/>
            <p:nvPr/>
          </p:nvSpPr>
          <p:spPr>
            <a:xfrm>
              <a:off x="241200" y="3571920"/>
              <a:ext cx="2199960" cy="515880"/>
            </a:xfrm>
            <a:prstGeom prst="rect">
              <a:avLst/>
            </a:prstGeom>
            <a:noFill/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Подавляющие нервную систему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Группа 29"/>
          <p:cNvGrpSpPr/>
          <p:nvPr/>
        </p:nvGrpSpPr>
        <p:grpSpPr>
          <a:xfrm>
            <a:off x="2571840" y="3571920"/>
            <a:ext cx="2273040" cy="536040"/>
            <a:chOff x="2571840" y="3571920"/>
            <a:chExt cx="2273040" cy="536040"/>
          </a:xfrm>
        </p:grpSpPr>
        <p:grpSp>
          <p:nvGrpSpPr>
            <p:cNvPr id="109" name="Group 8"/>
            <p:cNvGrpSpPr/>
            <p:nvPr/>
          </p:nvGrpSpPr>
          <p:grpSpPr>
            <a:xfrm>
              <a:off x="2571840" y="3571920"/>
              <a:ext cx="2273040" cy="536040"/>
              <a:chOff x="2571840" y="3571920"/>
              <a:chExt cx="2273040" cy="536040"/>
            </a:xfrm>
          </p:grpSpPr>
          <p:sp>
            <p:nvSpPr>
              <p:cNvPr id="110" name="AutoShape 9"/>
              <p:cNvSpPr/>
              <p:nvPr/>
            </p:nvSpPr>
            <p:spPr>
              <a:xfrm>
                <a:off x="2571840" y="357192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1" name="AutoShape 10"/>
              <p:cNvSpPr/>
              <p:nvPr/>
            </p:nvSpPr>
            <p:spPr>
              <a:xfrm>
                <a:off x="2607120" y="360432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rgbClr val="92d05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12" name="Text Box 31"/>
            <p:cNvSpPr/>
            <p:nvPr/>
          </p:nvSpPr>
          <p:spPr>
            <a:xfrm>
              <a:off x="2598840" y="3571920"/>
              <a:ext cx="2199960" cy="515880"/>
            </a:xfrm>
            <a:prstGeom prst="rect">
              <a:avLst/>
            </a:prstGeom>
            <a:solidFill>
              <a:srgbClr val="92d050"/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Депрессанты (барбитураты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Группа 34"/>
          <p:cNvGrpSpPr/>
          <p:nvPr/>
        </p:nvGrpSpPr>
        <p:grpSpPr>
          <a:xfrm>
            <a:off x="214200" y="4357800"/>
            <a:ext cx="2273040" cy="536040"/>
            <a:chOff x="214200" y="4357800"/>
            <a:chExt cx="2273040" cy="536040"/>
          </a:xfrm>
        </p:grpSpPr>
        <p:grpSp>
          <p:nvGrpSpPr>
            <p:cNvPr id="114" name="Group 8"/>
            <p:cNvGrpSpPr/>
            <p:nvPr/>
          </p:nvGrpSpPr>
          <p:grpSpPr>
            <a:xfrm>
              <a:off x="214200" y="4357800"/>
              <a:ext cx="2273040" cy="536040"/>
              <a:chOff x="214200" y="4357800"/>
              <a:chExt cx="2273040" cy="536040"/>
            </a:xfrm>
          </p:grpSpPr>
          <p:sp>
            <p:nvSpPr>
              <p:cNvPr id="115" name="AutoShape 9"/>
              <p:cNvSpPr/>
              <p:nvPr/>
            </p:nvSpPr>
            <p:spPr>
              <a:xfrm>
                <a:off x="214200" y="435780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chemeClr val="accent1">
                  <a:lumMod val="60000"/>
                  <a:lumOff val="40000"/>
                </a:schemeClr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6" name="AutoShape 10"/>
              <p:cNvSpPr/>
              <p:nvPr/>
            </p:nvSpPr>
            <p:spPr>
              <a:xfrm>
                <a:off x="249480" y="439020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chemeClr val="accent1">
                  <a:lumMod val="60000"/>
                  <a:lumOff val="4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17" name="Text Box 31"/>
            <p:cNvSpPr/>
            <p:nvPr/>
          </p:nvSpPr>
          <p:spPr>
            <a:xfrm>
              <a:off x="241200" y="4357800"/>
              <a:ext cx="2199960" cy="515880"/>
            </a:xfrm>
            <a:prstGeom prst="rect">
              <a:avLst/>
            </a:prstGeom>
            <a:solidFill>
              <a:schemeClr val="accent1">
                <a:lumMod val="60000"/>
                <a:lumOff val="40000"/>
              </a:schemeClr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Возбуждающие нервную систе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Группа 39"/>
          <p:cNvGrpSpPr/>
          <p:nvPr/>
        </p:nvGrpSpPr>
        <p:grpSpPr>
          <a:xfrm>
            <a:off x="2571840" y="4357800"/>
            <a:ext cx="2273040" cy="536040"/>
            <a:chOff x="2571840" y="4357800"/>
            <a:chExt cx="2273040" cy="536040"/>
          </a:xfrm>
        </p:grpSpPr>
        <p:grpSp>
          <p:nvGrpSpPr>
            <p:cNvPr id="119" name="Group 8"/>
            <p:cNvGrpSpPr/>
            <p:nvPr/>
          </p:nvGrpSpPr>
          <p:grpSpPr>
            <a:xfrm>
              <a:off x="2571840" y="4357800"/>
              <a:ext cx="2273040" cy="536040"/>
              <a:chOff x="2571840" y="4357800"/>
              <a:chExt cx="2273040" cy="536040"/>
            </a:xfrm>
          </p:grpSpPr>
          <p:sp>
            <p:nvSpPr>
              <p:cNvPr id="120" name="AutoShape 9"/>
              <p:cNvSpPr/>
              <p:nvPr/>
            </p:nvSpPr>
            <p:spPr>
              <a:xfrm>
                <a:off x="2571840" y="435780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chemeClr val="accent4">
                  <a:lumMod val="60000"/>
                  <a:lumOff val="40000"/>
                </a:schemeClr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AutoShape 10"/>
              <p:cNvSpPr/>
              <p:nvPr/>
            </p:nvSpPr>
            <p:spPr>
              <a:xfrm>
                <a:off x="2607120" y="439020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chemeClr val="accent4">
                  <a:lumMod val="60000"/>
                  <a:lumOff val="40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22" name="Text Box 31"/>
            <p:cNvSpPr/>
            <p:nvPr/>
          </p:nvSpPr>
          <p:spPr>
            <a:xfrm>
              <a:off x="2598840" y="4478400"/>
              <a:ext cx="2199960" cy="302760"/>
            </a:xfrm>
            <a:prstGeom prst="rect">
              <a:avLst/>
            </a:prstGeom>
            <a:solidFill>
              <a:schemeClr val="accent4">
                <a:lumMod val="60000"/>
                <a:lumOff val="40000"/>
              </a:schemeClr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Галлюциноген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Группа 55"/>
          <p:cNvGrpSpPr/>
          <p:nvPr/>
        </p:nvGrpSpPr>
        <p:grpSpPr>
          <a:xfrm>
            <a:off x="1285920" y="5143680"/>
            <a:ext cx="2273040" cy="536040"/>
            <a:chOff x="1285920" y="5143680"/>
            <a:chExt cx="2273040" cy="536040"/>
          </a:xfrm>
        </p:grpSpPr>
        <p:grpSp>
          <p:nvGrpSpPr>
            <p:cNvPr id="124" name="Group 8"/>
            <p:cNvGrpSpPr/>
            <p:nvPr/>
          </p:nvGrpSpPr>
          <p:grpSpPr>
            <a:xfrm>
              <a:off x="1285920" y="5143680"/>
              <a:ext cx="2273040" cy="536040"/>
              <a:chOff x="1285920" y="5143680"/>
              <a:chExt cx="2273040" cy="536040"/>
            </a:xfrm>
          </p:grpSpPr>
          <p:sp>
            <p:nvSpPr>
              <p:cNvPr id="125" name="AutoShape 9"/>
              <p:cNvSpPr/>
              <p:nvPr/>
            </p:nvSpPr>
            <p:spPr>
              <a:xfrm>
                <a:off x="1285920" y="5143680"/>
                <a:ext cx="2273040" cy="536040"/>
              </a:xfrm>
              <a:prstGeom prst="roundRect">
                <a:avLst>
                  <a:gd name="adj" fmla="val 16667"/>
                </a:avLst>
              </a:prstGeom>
              <a:solidFill>
                <a:srgbClr val="ffff00"/>
              </a:solidFill>
              <a:ln w="127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6" name="AutoShape 10"/>
              <p:cNvSpPr/>
              <p:nvPr/>
            </p:nvSpPr>
            <p:spPr>
              <a:xfrm>
                <a:off x="1321200" y="5176080"/>
                <a:ext cx="2193120" cy="217440"/>
              </a:xfrm>
              <a:prstGeom prst="roundRect">
                <a:avLst>
                  <a:gd name="adj" fmla="val 28356"/>
                </a:avLst>
              </a:prstGeom>
              <a:solidFill>
                <a:srgbClr val="ffff00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27" name="Text Box 31"/>
            <p:cNvSpPr/>
            <p:nvPr/>
          </p:nvSpPr>
          <p:spPr>
            <a:xfrm>
              <a:off x="1312920" y="5264280"/>
              <a:ext cx="2199960" cy="302760"/>
            </a:xfrm>
            <a:prstGeom prst="rect">
              <a:avLst/>
            </a:prstGeom>
            <a:solidFill>
              <a:srgbClr val="ffff00"/>
            </a:solidFill>
            <a:ln w="9525">
              <a:noFill/>
            </a:ln>
            <a:effectLst>
              <a:outerShdw algn="ctr" dir="2700000" dist="17819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ru-RU" sz="1400" spc="-1" strike="noStrike">
                  <a:solidFill>
                    <a:srgbClr val="000000"/>
                  </a:solidFill>
                  <a:latin typeface="Trebuchet MS"/>
                </a:rPr>
                <a:t>Марихуа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comb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7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Больной или преступник? 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214200" y="1812240"/>
            <a:ext cx="4285800" cy="447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Кто же он, наркоман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— преступник, которого надо ловить, сажать в тюрьму, или больной, которого надо лечить? Что заставляет его рисковать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  <a:ea typeface="Times New Roman"/>
              </a:rPr>
              <a:t>Наркоман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— это болезнь, ее надо лечить. Она страшна тем, что растет как снежный ком: когда перестают действовать более легкие наркотики, наркоман переходит на тяжелые, в конечном счете это приводит к гибели тысяч молодых людей. Сегодня нарко-маны ушли в подполье. К этому привели запретительные меры, к которым от бессилия прибегают наши правоохра-нительные органы. Силы общества должны быть направлены на то, чтобы из наркоманов сделать не врагов, а союзников врачей и милиции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4643280" y="3500280"/>
            <a:ext cx="4285800" cy="32191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 rot="243600">
            <a:off x="4657680" y="1148400"/>
            <a:ext cx="4285800" cy="25714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040"/>
            <a:ext cx="7238520" cy="60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3800" spc="-1" strike="noStrike" cap="all">
                <a:solidFill>
                  <a:srgbClr val="000000"/>
                </a:solidFill>
                <a:latin typeface="Trebuchet MS"/>
              </a:rPr>
              <a:t>Борьба с наркоманией</a:t>
            </a:r>
            <a:endParaRPr b="0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214200" y="1103760"/>
            <a:ext cx="4642920" cy="5444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92d050"/>
                </a:solidFill>
                <a:latin typeface="Arial"/>
                <a:ea typeface="Times New Roman"/>
              </a:rPr>
              <a:t>26 июня — Всемирный день борьбы с наркомание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 этот день весь мир говорит о том, что современное общество заражено тяжелейшей психической болезнью, которую надо лечить. Карательные меры не решают проблемы, хотя у представителей российской государственной власти на этот счет иное мн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Наркомания уже обрела статус социальной болезни. Она прогрессирует и поражает все слои населения. Никто достоверно не знает числа заболевших — официальные показатели можно назвать вершиной айсберга. Одни говорят, что эти цифры можно смело умножать на десять, другие — на пятьдесят. 97 процентов ВИЧ-инфицированных — наркоманы. Это болезнь молодежи, каждый десятый потребитель наркотиков — подросток до 18 лет. Специалисты утверждают, что не осталось ни одной школы, вуза, техникума, в которых не было бы подростков, больных наркомани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4929120" y="1214280"/>
            <a:ext cx="4053600" cy="21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35" name="Picture 3" descr=""/>
          <p:cNvPicPr/>
          <p:nvPr/>
        </p:nvPicPr>
        <p:blipFill>
          <a:blip r:embed="rId2"/>
          <a:stretch/>
        </p:blipFill>
        <p:spPr>
          <a:xfrm>
            <a:off x="4857840" y="4000680"/>
            <a:ext cx="4142880" cy="249984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p:transition spd="slow"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Изящная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зящная">
  <a:themeElements>
    <a:clrScheme name="Яркая">
      <a:dk1>
        <a:srgbClr val="000000"/>
      </a:dk1>
      <a:lt1>
        <a:srgbClr val="ffffff"/>
      </a:lt1>
      <a:dk2>
        <a:srgbClr val="666666"/>
      </a:dk2>
      <a:lt2>
        <a:srgbClr val="d2d2d2"/>
      </a:lt2>
      <a:accent1>
        <a:srgbClr val="ff388c"/>
      </a:accent1>
      <a:accent2>
        <a:srgbClr val="e40059"/>
      </a:accent2>
      <a:accent3>
        <a:srgbClr val="9c007f"/>
      </a:accent3>
      <a:accent4>
        <a:srgbClr val="68007f"/>
      </a:accent4>
      <a:accent5>
        <a:srgbClr val="005bd3"/>
      </a:accent5>
      <a:accent6>
        <a:srgbClr val="00349e"/>
      </a:accent6>
      <a:hlink>
        <a:srgbClr val="17bbfd"/>
      </a:hlink>
      <a:folHlink>
        <a:srgbClr val="ff79c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pulent</Template>
  <TotalTime>83</TotalTime>
  <Application>LibreOffice/7.4.7.2$Linux_X86_64 LibreOffice_project/40$Build-2</Application>
  <AppVersion>15.0000</AppVersion>
  <Words>546</Words>
  <Paragraphs>21</Paragraphs>
  <Company>matrix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11:36:43Z</dcterms:created>
  <dc:creator>Администратор</dc:creator>
  <dc:description/>
  <dc:language>en-US</dc:language>
  <cp:lastModifiedBy>Admin</cp:lastModifiedBy>
  <dcterms:modified xsi:type="dcterms:W3CDTF">2013-03-21T07:56:47Z</dcterms:modified>
  <cp:revision>10</cp:revision>
  <dc:subject/>
  <dc:title>НАРКОМ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6</vt:r8>
  </property>
</Properties>
</file>