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BB9-DE19-41B1-9FB5-384DE68A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BD4-0A15-446C-9D49-20370C3B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671-BED7-4DCE-8035-10CC4EF5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4AC-5DD7-4D0D-B292-B36B1871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653D-75D1-403F-BC9B-73D3A2DD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F384-98F9-462F-AEF3-E2C347C7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D7E7-8E15-4567-83E9-F400B793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276C-ADE8-42F6-BEDB-335D7640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059A-DC8D-4309-BC86-F9A515B9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3DCB-DA20-4C6A-856B-31DC1A3F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E87E-C86E-447C-B985-6AB36BFA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151-5297-4C89-98DD-58FC6AB9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B8B0-F60C-4F0F-A960-9755790D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D5C5-FEC8-4809-8586-FF50E91B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F11C-F716-4078-AE2C-77061399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ACD0-B7DC-4242-BBFC-1D6AB6FE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606F-C916-47D9-84E9-1776B18A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55A-C354-4039-A5E7-06ABB614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68F-912F-46CA-B4BA-0F7334CE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943-C33D-4267-B8B3-4F23D413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740-8C86-47DD-9B5A-75AB84F4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F6E-68CB-4377-98CA-004A0FC1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893-12B9-497F-9977-969B556A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1C1-6912-46F7-8376-A541596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5C5078-7ECE-4DA0-8B15-8A07764EFB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4C6404-36E3-4B52-8FA8-5A4BF8EFE5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600200" y="609480"/>
            <a:ext cx="7314840" cy="46479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scadeUp">
              <a:avLst>
                <a:gd name="adj" fmla="val 44444"/>
              </a:avLst>
            </a:prstTxWarp>
            <a:noAutofit/>
            <a:scene3d>
              <a:camera prst="legacyPerspectiveTopLeft">
                <a:rot lat="0" lon="20519999" rev="0"/>
              </a:camera>
              <a:lightRig dir="r" rig="legacyHarsh3"/>
            </a:scene3d>
            <a:sp3d extrusionH="430200" prstMaterial="legacyMatte">
              <a:extrusionClr>
                <a:srgbClr val="006600"/>
              </a:extrusionClr>
              <a:contourClr>
                <a:srgbClr val="006600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наркомания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39640" y="907920"/>
            <a:ext cx="79927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котические вещества, попадая во внутреннюю среду организма, оказывают сильнейшее воздействие, прежде всего на головной мозг. С течением времени у человека появляются зависимости от наркот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психической зависимости от наркотика определяется воздействием на зоны поощрения, при которых возникают положительные эмоциональные состояния. Таким образом, употребление наркотика становится наиглавнейшим стимулом в получении положительных эмоций, а при отсутствии наркотика человек чувствует психологический дискомф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ханизмы формирования физической зависимости от наркотиков до конца еще не ясны. Есть предположения, что они включаются в обменные процессы как необходимый и самостоятельный элемент на уровне регуляции функций жизнедеятельности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роцессе развития болезни происходит постепенное привыкание к наркотику. Он уже не вызывает того состояния, которое было в начале. Появляется состояние «ломки» или абсистентный синдром. Физиологическое явление привыкания к дозе наркотика называется – толерант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050920" y="333360"/>
            <a:ext cx="4825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Свойства нарком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836640"/>
            <a:ext cx="8892720" cy="58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31640" tIns="45000" bIns="43164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ркотики в зависимости от воздействия на организм человека условно можно разделить на 2 группы: возбуждающие и вызывающие депрессию. При этом следует иметь в виду, ч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ый из наркотиков обладает большим разнообразием скрытых свойств, по-разн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ющих на нервную сист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ак, все наркотики и их действия делятся на следующие группы (разработано специалистами Всемирного общества здравоохранения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  седативные яды, успокаивающие психическую деятельность. Они сокращают вплоть до полного устранения функции возбудимости и восприятия, вводя человека в заблуждение, одаривая его букетом приятных состояний. Эти вещества (опиум и его алкалоиды, морфий, кодеин, кока и кокаин) изменяют мозговые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   галлюциногенные средства, представленные большим числом вещ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тительного происхождения, очень разные по своему химическому     составу (мескалин из кактуса, индийская конопля, гашиш и прочие    тропеиновые растения). Все они вызывают церебральные возбуждения, выражающиеся в деформации ощущений, галлюцинациях, искажении восприятий, виден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  вещества, легко получаемые путем химического синтеза, вызывающие сперва церебральные возбуждения, а затем глубокую депрессию (алкоголь, эфир, хлороформ, бензи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  яды сна –барбитураты, хлорал, сульфорол, кава-кава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стительные вещества, возбуждающие мозговую деятельность без немедленного влияния на психику; сила воздействия на разных лиц бывает разной (кофеин, табак, бетель и др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79280" y="1773360"/>
            <a:ext cx="914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68360" y="260280"/>
            <a:ext cx="4535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Классификация наркот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50920" y="0"/>
            <a:ext cx="8713440" cy="66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рко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пиаты (героин, морфий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зывают сонливость, замедленное дыхание, сужение зрач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ят к поражении печени, сердечно-сосудистой и дыхательной систем, к поражению моз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каин ( кокаин, «крек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зывает возбужденное состояние, навязчивую словоохотливость, взволнованность, галлюцинации, расширенные зра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ят к аритмии, психозам, поражению слизистой дыхательных пу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ашиш (гашиш, марихуан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зывает колебание настроения, замедленную реакцию, усиленный аппетит, сухость рта, расширенные зра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ит к ухудшению памяти, повышению риска заболеваний онкологическими заболеваниями, поражению печени, повреждению головного моз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аллюциногены (ЛС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зывает трансоподобное состояние, возбуждение, бессонницу, галлюцин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ит к нарушению координации, тяжелым поражениям мозга, депре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Антидепрессанты (снотворно – седативные средст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зывает сонливость, заторможенность, слабое дыхание, расширенные зра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ит к поражению головного мозга, сердечно – сосудистой системы, психоз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янты (Амфетамин, «экстази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зывает возбудимость, повышенное потоотделение, сухость во рту, галлюцинации, расширенные зра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ит к расстройству нервной системы, дыхательной системы, депрессиям, параной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79280" y="153000"/>
            <a:ext cx="896436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228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Формирование жизнен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е отказываться от рискованных предложений, выражать правильно свои чувства, видеть положительные и отрицательные стороны   явл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критическое мыш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звивать уверенность в себ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ять своими чувств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укрепление связи с семь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сознание негативных влияний, давлений и манипуляций со стороны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5076720" y="2847960"/>
            <a:ext cx="4066920" cy="4009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сканирование"/>
          <p:cNvPicPr/>
          <p:nvPr/>
        </p:nvPicPr>
        <p:blipFill>
          <a:blip r:embed="rId2"/>
          <a:stretch/>
        </p:blipFill>
        <p:spPr>
          <a:xfrm>
            <a:off x="179280" y="2781360"/>
            <a:ext cx="3519000" cy="40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11120" y="718200"/>
            <a:ext cx="899460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31640" tIns="45000" bIns="53964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Уголовная ответ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. 228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законные изготовление, приобретение, хра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зка, пересылка либо сбыт наркотических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психотроп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. 229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Хищение либо вымогательство наркотических сред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бо психотроп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. 230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клонение к потреблению наркотических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психотроп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. 23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езаконное культивирование запрещ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возделыванию растений, содержащих наркотически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. 5 ст. 7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 лечении от нарко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1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95280" y="115920"/>
            <a:ext cx="837216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езни, возникающие в результате злоупотребления веществами, вызывающими кратковременное чувство благоприятного психического состояния,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табакокур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нарком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токсиком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пищевое отр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з перечисленных ниже признаков, определите 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ые указывают на наркотическое отра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тошнота и рв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головокру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кровотечение из но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сужение зрач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) покраснение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) повышение мышечного тон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Употребление одурманивающих средств приводит к хроническому от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ражается нервная сист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разрушается головной моз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несколько утрачивается работоспособ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нарастает полнейшая деградация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) улучшается настро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3348000" y="119700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38"/>
          <p:cNvSpPr/>
          <p:nvPr/>
        </p:nvSpPr>
        <p:spPr>
          <a:xfrm>
            <a:off x="3348000" y="148608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9"/>
          <p:cNvSpPr/>
          <p:nvPr/>
        </p:nvSpPr>
        <p:spPr>
          <a:xfrm>
            <a:off x="3348000" y="177336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40"/>
          <p:cNvSpPr/>
          <p:nvPr/>
        </p:nvSpPr>
        <p:spPr>
          <a:xfrm>
            <a:off x="3348000" y="206208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41"/>
          <p:cNvSpPr/>
          <p:nvPr/>
        </p:nvSpPr>
        <p:spPr>
          <a:xfrm>
            <a:off x="4140360" y="285264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42"/>
          <p:cNvSpPr/>
          <p:nvPr/>
        </p:nvSpPr>
        <p:spPr>
          <a:xfrm>
            <a:off x="4140360" y="342900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43"/>
          <p:cNvSpPr/>
          <p:nvPr/>
        </p:nvSpPr>
        <p:spPr>
          <a:xfrm>
            <a:off x="4140360" y="314172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44"/>
          <p:cNvSpPr/>
          <p:nvPr/>
        </p:nvSpPr>
        <p:spPr>
          <a:xfrm>
            <a:off x="4140360" y="400536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45"/>
          <p:cNvSpPr/>
          <p:nvPr/>
        </p:nvSpPr>
        <p:spPr>
          <a:xfrm>
            <a:off x="4140360" y="371808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46"/>
          <p:cNvSpPr/>
          <p:nvPr/>
        </p:nvSpPr>
        <p:spPr>
          <a:xfrm>
            <a:off x="4140360" y="429408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7"/>
          <p:cNvSpPr/>
          <p:nvPr/>
        </p:nvSpPr>
        <p:spPr>
          <a:xfrm>
            <a:off x="5148360" y="566100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8"/>
          <p:cNvSpPr/>
          <p:nvPr/>
        </p:nvSpPr>
        <p:spPr>
          <a:xfrm>
            <a:off x="5148360" y="537372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9"/>
          <p:cNvSpPr/>
          <p:nvPr/>
        </p:nvSpPr>
        <p:spPr>
          <a:xfrm>
            <a:off x="5148360" y="508464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0"/>
          <p:cNvSpPr/>
          <p:nvPr/>
        </p:nvSpPr>
        <p:spPr>
          <a:xfrm>
            <a:off x="5148360" y="623736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51"/>
          <p:cNvSpPr/>
          <p:nvPr/>
        </p:nvSpPr>
        <p:spPr>
          <a:xfrm>
            <a:off x="5148360" y="5950080"/>
            <a:ext cx="217080" cy="215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763640" y="692280"/>
            <a:ext cx="5544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accent2"/>
                </a:solidFill>
                <a:latin typeface="Times New Roman"/>
              </a:rPr>
              <a:t>Домашне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2"/>
                </a:solidFill>
                <a:latin typeface="Times New Roman"/>
              </a:rPr>
              <a:t>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</a:rPr>
              <a:t>Антиреклам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Times New Roman"/>
              </a:rPr>
              <a:t>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Times New Roman"/>
              </a:rPr>
              <a:t>П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239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2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040" cy="887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u="sng">
                <a:solidFill>
                  <a:srgbClr val="006666"/>
                </a:solidFill>
                <a:uFillTx/>
                <a:latin typeface="Times New Roman"/>
              </a:rPr>
              <a:t>План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1341360"/>
            <a:ext cx="6400440" cy="5111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1. 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2. Влияние наркотиков на организм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3. Свойства нарком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4. Классификация наркот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5. Формирование жизненных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6. Уголовная 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7. Те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364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Историческая справ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накомство человека с наркотиками  состоялось тысячелетия назад. Люди каменного века знали гашиш, опиум, кокаин и использовали их для поднятия боевого духа перед боевыми действиями или на религиозных обряд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умерская цивилизация оставила на глиняных табличках (3500 г. до н.э.) самые ранние советы по приготовлению и употреблению опиума. Использование галлюциногенных грибов на религиозных ритуалах засвидетельствовано ранними источниками в Мексике, Скандинавии, Сибири. На стенах погребальных пещер индейцев Центральной Америки встречаются изображения людей, жующих листья коки (300 г. до н. э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коло 2700 года до н. э. В Китае уже использовали коноплю в виде настоя или чая. Император Шен Нунг предписывал своим подданным принимать этот чай в качестве лекарства от подагры и рассеянности, а от кашля и поноса предлагал использовать гаши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гипетский папирус (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. до н. э.) рекомендовал в качестве лечебного средства мак. В Греции 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. до н. э. применялись настойки, в состав которых включались вино, мед и опиум. Аристотель, Геродот и Гален в своих трудах описывали действие наркотиков. Уже в древнеримские медики выяснили, что опиум может быть смертельным я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чал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. н. э. на Аравийском полуострове возник ислам, священная книга которого Коран запрещала употребление алкоголя, в связи с чем появились попытки заменить алкоголь опиумом. В конц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III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естоносцы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езли с Ближнего Востока в Европу опиум как средство одурманивания. Но благодаря средневековой инквизиции использование опиума притормозилось на несколько веков. Только в 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. в медицинскую практику был введен опий (Парацельс – известный медиу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805 году удалось выделить морфин, а в 1956 году появились шприцы и наркомания стала развиваться через уколы. В 1860 году немецкий химик Альберт Ниман получил активный алкалоид и назвал его кокаин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14 году немецкой фармацевтической компанией были разработаны экстази и МДА. Амфетамин был получен  в 1887 году, но лишь с 1935 года его начали использовать в медицинских целях. Синтетический вариант ЛСД был изготовлен в 1938 году в Женеве химиком Альбертом Хоффманом в терапевтических це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оссии издавна выращивались конопля и мак для производства многих вещей в хозяйстве. Распространение наркотиков началось в 60 – е годы, когда был снят «железный занавес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24000" y="620640"/>
            <a:ext cx="864216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2005 году в Подмосковье на 45 % возросло количество тяжких преступлений, связанных с незаконным оборотом наркот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04 году от передозировки умерло 392 человека, что составляет 288 % от 2003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возраст приобщения к наркотикам снизился до 14,2 лет у мальчиков, 14,6 – у девоч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лн. людей употребляют наркотики в нашей стране, 76 % молодежь от 14 до 30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10 лет число смертей от наркотиков увеличилось в 12 раз, среди детей в 42 раза (65 % - передозиров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кончанию школы 40 % детей пробовали наркотики, «сидят на игле» - 9% мальчиков, 5 % - девоч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1 % ВИЧ – инфицированных – нарком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наркоман за год втягивает в «порочный круг» до 4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7"/>
          <p:cNvSpPr/>
          <p:nvPr/>
        </p:nvSpPr>
        <p:spPr>
          <a:xfrm>
            <a:off x="826920" y="620640"/>
            <a:ext cx="720072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ые не могут еще точно установить, как наркотики с такой быстротой включаются в обмен веществ человека и становятся необходимой составной частью него. Но уже доказано, что наркотики воздействуют на центр в головном мозге, который отвечает за «поощрение». При этом происходит выброс дофамина в кровь и человек чувствует возбу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наркотики отрицательно воздействуют на организм человека. Прежде всего, они снимают боль и снижают болевой порог чувств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равносильно снятию «службы охра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07020802"/>
          <p:cNvPicPr/>
          <p:nvPr/>
        </p:nvPicPr>
        <p:blipFill>
          <a:blip r:embed="rId1"/>
          <a:stretch/>
        </p:blipFill>
        <p:spPr>
          <a:xfrm>
            <a:off x="108000" y="4113360"/>
            <a:ext cx="3898440" cy="2744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1403280" y="115920"/>
            <a:ext cx="633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Влияние наркотиков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11280" y="476280"/>
            <a:ext cx="83167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котики воздействуют на дыхательный центр и хеморецепторы, которые отвечают за количество кислорода в крови, не реагируют на углекислый газ и происходит кислородное голодание организма. Наркоманы часто умирают от паралича дыхательного центра в результате передозир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котики также влияют на 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левой центр. Кашель – это защитная реакция нашего организма, но у наркоманов отключается защитный механизм каш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7020501"/>
          <p:cNvPicPr/>
          <p:nvPr/>
        </p:nvPicPr>
        <p:blipFill>
          <a:blip r:embed="rId1"/>
          <a:stretch/>
        </p:blipFill>
        <p:spPr>
          <a:xfrm>
            <a:off x="3348000" y="3367080"/>
            <a:ext cx="3490560" cy="34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826920" y="333360"/>
            <a:ext cx="720072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котики способствуют угнетению сосудодвигательного центра, а  следствие этого снижению кровяного давления и замедлению пуль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этой причине ухудшаются функции сердечно-сосудистой системы, функции всех клеток слабеют, и весь организм дряхлеет, как в ста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7020401_1"/>
          <p:cNvPicPr/>
          <p:nvPr/>
        </p:nvPicPr>
        <p:blipFill>
          <a:blip r:embed="rId1"/>
          <a:stretch/>
        </p:blipFill>
        <p:spPr>
          <a:xfrm>
            <a:off x="2843280" y="2914560"/>
            <a:ext cx="394308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042920" y="765000"/>
            <a:ext cx="6695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котики угнетают механизмы регуляции пищеварения, у наркоманов притупляются все вкусовые и обонятельные ощущения, снижается аппетит, уменьшается выработка ферментов, желчи, желудочного и кишечного с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7020602"/>
          <p:cNvPicPr/>
          <p:nvPr/>
        </p:nvPicPr>
        <p:blipFill>
          <a:blip r:embed="rId1"/>
          <a:stretch/>
        </p:blipFill>
        <p:spPr>
          <a:xfrm>
            <a:off x="5076720" y="2492280"/>
            <a:ext cx="3303360" cy="3715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324000" y="2492280"/>
            <a:ext cx="3744720" cy="41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ща не в полной мере переваривается и усваив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команы обрекают себя на хроническое голодание  и имеют дефицит веса. Но также происходит и спазм гладкомышечной мускулатуры кишечника, что приводит  в длительным запорам (5 – 10 дней).И все это время в организме происходят процессы гниения и раз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900000" y="549360"/>
            <a:ext cx="734328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наркомании угнетаются половые потребности и возмож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девушек развиваются атрофические процессы, и они не могут даже заниматься проституцией из-за потери необходимых для этого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юношей происходит быстрое угасание пот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аркоманов обычно не бывает детей, а среди родившихся часты случаи уро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7021004"/>
          <p:cNvPicPr/>
          <p:nvPr/>
        </p:nvPicPr>
        <p:blipFill>
          <a:blip r:embed="rId1"/>
          <a:stretch/>
        </p:blipFill>
        <p:spPr>
          <a:xfrm>
            <a:off x="2484360" y="3716280"/>
            <a:ext cx="4247640" cy="18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  <Words>1130</Words>
  <Paragraphs>122</Paragraphs>
  <Company>школ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2:02:01Z</dcterms:created>
  <dc:creator>COMP-2</dc:creator>
  <dc:description/>
  <dc:language>en-US</dc:language>
  <cp:lastModifiedBy>Admin</cp:lastModifiedBy>
  <dcterms:modified xsi:type="dcterms:W3CDTF">2013-03-21T08:00:22Z</dcterms:modified>
  <cp:revision>3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