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85EF-1F4B-4830-AA7D-2A7F99F7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A8C0-A93C-455C-B427-087D08D5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1AD-7255-4907-98B3-9EE92D29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5FF-97B4-4557-9C06-635A2958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31E9-E53B-4152-9C32-B9E681A7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9D38-E3FC-4D69-B0BD-72F01688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3163-B6E9-47DC-863C-B397AE30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CBCC-A0DF-4E06-AA27-887BD510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2FD9-2B10-4A80-9CEC-819FAF2D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49A4-7EB9-4706-B29F-403F3D84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1E73-4489-4BA1-AEBB-1DBCA1B5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52D-BC99-4D97-A0ED-855AFFA7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9661-6E61-4926-9F72-F68EA3E7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A0BE-7E2D-484A-BF73-15BC8A25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456A-60DD-4C2A-B52E-785241CB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FBCA-CE89-477E-83A0-34B565E0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CC58-296D-473B-9F7A-7CA1FF66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CAE-151E-4FB6-A31E-BAD84F99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3755-1C41-4419-9AD5-7DA82D1B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206-6604-428D-BBC8-E2D48355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FB8-2EBF-4EB8-9D75-4BD1B2C7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364C-1F14-426D-8B07-4D93BA7B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A47-ECCF-4F5F-A788-C5ABA623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7624-60CD-4350-AB51-CB37F80B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 hidden="1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Прямоугольник 7"/>
          <p:cNvSpPr/>
          <p:nvPr/>
        </p:nvSpPr>
        <p:spPr>
          <a:xfrm flipH="1">
            <a:off x="2666160" y="0"/>
            <a:ext cx="6476760" cy="685764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V="1">
            <a:off x="2666880" y="0"/>
            <a:ext cx="360" cy="685800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2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12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19520" y="6558120"/>
            <a:ext cx="292752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88076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619256-B855-4343-896C-B0F5F50159BE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68007f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68007f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68007f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68007f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666666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A5979C-8E4E-4E27-B38D-69447A7F40CB}" type="slidenum">
              <a:rPr b="0" lang="ru-RU" sz="1100" spc="-1" strike="noStrike">
                <a:solidFill>
                  <a:srgbClr val="66666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86520" y="1884960"/>
            <a:ext cx="5257080" cy="1901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6000" spc="-1" strike="noStrike" cap="all">
                <a:solidFill>
                  <a:srgbClr val="ffff00"/>
                </a:solidFill>
                <a:latin typeface="Trebuchet MS"/>
              </a:rPr>
              <a:t>НАРКОМАНИЯ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142800" cy="6857640"/>
          </a:xfrm>
          <a:prstGeom prst="rect">
            <a:avLst/>
          </a:prstGeom>
          <a:ln w="9525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5"/>
          <p:cNvSpPr/>
          <p:nvPr/>
        </p:nvSpPr>
        <p:spPr>
          <a:xfrm>
            <a:off x="7286760" y="0"/>
            <a:ext cx="1856880" cy="6857640"/>
          </a:xfrm>
          <a:prstGeom prst="rect">
            <a:avLst/>
          </a:prstGeom>
          <a:gradFill rotWithShape="0">
            <a:gsLst>
              <a:gs pos="0">
                <a:srgbClr val="a28dac"/>
              </a:gs>
              <a:gs pos="100000">
                <a:srgbClr val="6d3780"/>
              </a:gs>
            </a:gsLst>
            <a:lin ang="5400000"/>
          </a:gradFill>
          <a:ln>
            <a:solidFill>
              <a:srgbClr val="68007f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7238520" cy="60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Наркомания в мире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214200" y="1024560"/>
            <a:ext cx="4428720" cy="527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Мир наркоманов сегодня прибли-зился к каждому из нас. Все чаще мы говорим о них, все чаще встречаем, читаем в прессе, слышим о трагедиях, произошедших в семьях знакомых, виной которых стали наркотики. Особое беспокойство вызывает тот факт, что у наркомании – “молодое лицо”. Основное число людей, потребляющих наркотики, сейчас составляет подрастающее поколение – молодые люди в возрасте от 14 до 30 ле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700" spc="-1" strike="noStrike">
                <a:solidFill>
                  <a:srgbClr val="00b0f0"/>
                </a:solidFill>
                <a:latin typeface="Arial"/>
                <a:ea typeface="Times New Roman"/>
              </a:rPr>
              <a:t>Наркотики – не просто вещества, наносящие вред здоровью.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Они стремительно и необратимо разрушают организм и личность человека. Потребление наркотиков, став частью молодежного досуга, увлечений, захватывает все новые клубы, дискотеки, учебные заведения, двор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7286760" y="857160"/>
            <a:ext cx="1856880" cy="51433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4643280" y="1500120"/>
            <a:ext cx="2571480" cy="4266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7238520" cy="67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наркомания?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214200" y="1459440"/>
            <a:ext cx="5500440" cy="520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Arial"/>
                <a:ea typeface="Times New Roman"/>
              </a:rPr>
              <a:t>Наркомания - хроническое прогредиентное заболевание, вызванное употреблением веществ-наркот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онами РФ наркомания определяется как «заболевание, обусловленное зависимостью от наркотических средств или психотропных веществ, включенных в Перечень наркотических средств, психотропных веществ и их прекурсоров, подлежащих контролю в Российской Федерации». Соответственно, патологическую зависимость от алкоголя, табака, или кофеина юридически не причисляют к наркомании, хотя и они, по ряду критериев, относятся к наркотическим веществам. Медицина рассматривает зависимость от этих веществ как наркотическую. В связи с этим, патологическую зависимость от данных веществ выделяют в отдельные группы, для алкоголя это — алкоголизм, для табака — никотиновая зависимость, только злоупотребление кофеином относится в наркологии к той же группе, что и злоупотребление прочими стимуляторами, и не выделяется отд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 rot="210600">
            <a:off x="5857920" y="1071360"/>
            <a:ext cx="2934000" cy="41428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 rot="21339000">
            <a:off x="5931360" y="4540680"/>
            <a:ext cx="3028680" cy="20570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7238520" cy="67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Какие бывают наркотики?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5857920" y="4429080"/>
            <a:ext cx="3047760" cy="2285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5786280" y="785880"/>
            <a:ext cx="3047760" cy="2285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5286240" y="2428920"/>
            <a:ext cx="2857320" cy="2585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01" name="Прямоугольник 6"/>
          <p:cNvSpPr/>
          <p:nvPr/>
        </p:nvSpPr>
        <p:spPr>
          <a:xfrm>
            <a:off x="285840" y="928800"/>
            <a:ext cx="514332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аркотики бывают естественного происхож-дения, известные с древности (марихуана, гашиш, опиум, конопля), и синтетические, т. е. добытые химическим путем. В качестве наркотиков иногда используются лекарственные вещества психот-ропной групп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571320" y="257184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Врачи подразделяют наркотики на несколько груп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Группа 28"/>
          <p:cNvGrpSpPr/>
          <p:nvPr/>
        </p:nvGrpSpPr>
        <p:grpSpPr>
          <a:xfrm>
            <a:off x="214200" y="3571920"/>
            <a:ext cx="2273040" cy="536040"/>
            <a:chOff x="214200" y="3571920"/>
            <a:chExt cx="2273040" cy="536040"/>
          </a:xfrm>
        </p:grpSpPr>
        <p:grpSp>
          <p:nvGrpSpPr>
            <p:cNvPr id="104" name="Group 8"/>
            <p:cNvGrpSpPr/>
            <p:nvPr/>
          </p:nvGrpSpPr>
          <p:grpSpPr>
            <a:xfrm>
              <a:off x="214200" y="3571920"/>
              <a:ext cx="2273040" cy="536040"/>
              <a:chOff x="214200" y="3571920"/>
              <a:chExt cx="2273040" cy="536040"/>
            </a:xfrm>
          </p:grpSpPr>
          <p:sp>
            <p:nvSpPr>
              <p:cNvPr id="105" name="AutoShape 9"/>
              <p:cNvSpPr/>
              <p:nvPr/>
            </p:nvSpPr>
            <p:spPr>
              <a:xfrm>
                <a:off x="214200" y="3571920"/>
                <a:ext cx="2273040" cy="536040"/>
              </a:xfrm>
              <a:prstGeom prst="roundRect">
                <a:avLst>
                  <a:gd name="adj" fmla="val 16667"/>
                </a:avLst>
              </a:prstGeom>
              <a:solidFill>
                <a:schemeClr val="accent5">
                  <a:lumMod val="60000"/>
                  <a:lumOff val="40000"/>
                </a:schemeClr>
              </a:solidFill>
              <a:ln w="127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6" name="AutoShape 10"/>
              <p:cNvSpPr/>
              <p:nvPr/>
            </p:nvSpPr>
            <p:spPr>
              <a:xfrm>
                <a:off x="249480" y="3604320"/>
                <a:ext cx="2193120" cy="217440"/>
              </a:xfrm>
              <a:prstGeom prst="roundRect">
                <a:avLst>
                  <a:gd name="adj" fmla="val 28356"/>
                </a:avLst>
              </a:prstGeom>
              <a:solidFill>
                <a:schemeClr val="accent5">
                  <a:lumMod val="60000"/>
                  <a:lumOff val="4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07" name="Text Box 31"/>
            <p:cNvSpPr/>
            <p:nvPr/>
          </p:nvSpPr>
          <p:spPr>
            <a:xfrm>
              <a:off x="241200" y="3571920"/>
              <a:ext cx="2199960" cy="515880"/>
            </a:xfrm>
            <a:prstGeom prst="rect">
              <a:avLst/>
            </a:prstGeom>
            <a:noFill/>
            <a:ln w="9525">
              <a:noFill/>
            </a:ln>
            <a:effectLst>
              <a:outerShdw algn="ctr" dir="2700000" dist="1781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Подавляющие нервную систем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Группа 29"/>
          <p:cNvGrpSpPr/>
          <p:nvPr/>
        </p:nvGrpSpPr>
        <p:grpSpPr>
          <a:xfrm>
            <a:off x="2571840" y="3571920"/>
            <a:ext cx="2273040" cy="536040"/>
            <a:chOff x="2571840" y="3571920"/>
            <a:chExt cx="2273040" cy="536040"/>
          </a:xfrm>
        </p:grpSpPr>
        <p:grpSp>
          <p:nvGrpSpPr>
            <p:cNvPr id="109" name="Group 8"/>
            <p:cNvGrpSpPr/>
            <p:nvPr/>
          </p:nvGrpSpPr>
          <p:grpSpPr>
            <a:xfrm>
              <a:off x="2571840" y="3571920"/>
              <a:ext cx="2273040" cy="536040"/>
              <a:chOff x="2571840" y="3571920"/>
              <a:chExt cx="2273040" cy="536040"/>
            </a:xfrm>
          </p:grpSpPr>
          <p:sp>
            <p:nvSpPr>
              <p:cNvPr id="110" name="AutoShape 9"/>
              <p:cNvSpPr/>
              <p:nvPr/>
            </p:nvSpPr>
            <p:spPr>
              <a:xfrm>
                <a:off x="2571840" y="3571920"/>
                <a:ext cx="2273040" cy="536040"/>
              </a:xfrm>
              <a:prstGeom prst="roundRect">
                <a:avLst>
                  <a:gd name="adj" fmla="val 16667"/>
                </a:avLst>
              </a:prstGeom>
              <a:solidFill>
                <a:srgbClr val="92d050"/>
              </a:solidFill>
              <a:ln w="127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1" name="AutoShape 10"/>
              <p:cNvSpPr/>
              <p:nvPr/>
            </p:nvSpPr>
            <p:spPr>
              <a:xfrm>
                <a:off x="2607120" y="3604320"/>
                <a:ext cx="2193120" cy="217440"/>
              </a:xfrm>
              <a:prstGeom prst="roundRect">
                <a:avLst>
                  <a:gd name="adj" fmla="val 28356"/>
                </a:avLst>
              </a:prstGeom>
              <a:solidFill>
                <a:srgbClr val="92d05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12" name="Text Box 31"/>
            <p:cNvSpPr/>
            <p:nvPr/>
          </p:nvSpPr>
          <p:spPr>
            <a:xfrm>
              <a:off x="2598840" y="3571920"/>
              <a:ext cx="2199960" cy="515880"/>
            </a:xfrm>
            <a:prstGeom prst="rect">
              <a:avLst/>
            </a:prstGeom>
            <a:solidFill>
              <a:srgbClr val="92d050"/>
            </a:solidFill>
            <a:ln w="9525">
              <a:noFill/>
            </a:ln>
            <a:effectLst>
              <a:outerShdw algn="ctr" dir="2700000" dist="1781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Депрессанты (барбитураты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Группа 34"/>
          <p:cNvGrpSpPr/>
          <p:nvPr/>
        </p:nvGrpSpPr>
        <p:grpSpPr>
          <a:xfrm>
            <a:off x="214200" y="4357800"/>
            <a:ext cx="2273040" cy="536040"/>
            <a:chOff x="214200" y="4357800"/>
            <a:chExt cx="2273040" cy="536040"/>
          </a:xfrm>
        </p:grpSpPr>
        <p:grpSp>
          <p:nvGrpSpPr>
            <p:cNvPr id="114" name="Group 8"/>
            <p:cNvGrpSpPr/>
            <p:nvPr/>
          </p:nvGrpSpPr>
          <p:grpSpPr>
            <a:xfrm>
              <a:off x="214200" y="4357800"/>
              <a:ext cx="2273040" cy="536040"/>
              <a:chOff x="214200" y="4357800"/>
              <a:chExt cx="2273040" cy="536040"/>
            </a:xfrm>
          </p:grpSpPr>
          <p:sp>
            <p:nvSpPr>
              <p:cNvPr id="115" name="AutoShape 9"/>
              <p:cNvSpPr/>
              <p:nvPr/>
            </p:nvSpPr>
            <p:spPr>
              <a:xfrm>
                <a:off x="214200" y="4357800"/>
                <a:ext cx="2273040" cy="536040"/>
              </a:xfrm>
              <a:prstGeom prst="roundRect">
                <a:avLst>
                  <a:gd name="adj" fmla="val 16667"/>
                </a:avLst>
              </a:prstGeom>
              <a:solidFill>
                <a:schemeClr val="accent1">
                  <a:lumMod val="60000"/>
                  <a:lumOff val="40000"/>
                </a:schemeClr>
              </a:solidFill>
              <a:ln w="127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6" name="AutoShape 10"/>
              <p:cNvSpPr/>
              <p:nvPr/>
            </p:nvSpPr>
            <p:spPr>
              <a:xfrm>
                <a:off x="249480" y="4390200"/>
                <a:ext cx="2193120" cy="217440"/>
              </a:xfrm>
              <a:prstGeom prst="roundRect">
                <a:avLst>
                  <a:gd name="adj" fmla="val 28356"/>
                </a:avLst>
              </a:prstGeom>
              <a:solidFill>
                <a:schemeClr val="accent1">
                  <a:lumMod val="60000"/>
                  <a:lumOff val="4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17" name="Text Box 31"/>
            <p:cNvSpPr/>
            <p:nvPr/>
          </p:nvSpPr>
          <p:spPr>
            <a:xfrm>
              <a:off x="241200" y="4357800"/>
              <a:ext cx="2199960" cy="51588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 w="9525">
              <a:noFill/>
            </a:ln>
            <a:effectLst>
              <a:outerShdw algn="ctr" dir="2700000" dist="1781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Возбуждающие нервную систем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Группа 39"/>
          <p:cNvGrpSpPr/>
          <p:nvPr/>
        </p:nvGrpSpPr>
        <p:grpSpPr>
          <a:xfrm>
            <a:off x="2571840" y="4357800"/>
            <a:ext cx="2273040" cy="536040"/>
            <a:chOff x="2571840" y="4357800"/>
            <a:chExt cx="2273040" cy="536040"/>
          </a:xfrm>
        </p:grpSpPr>
        <p:grpSp>
          <p:nvGrpSpPr>
            <p:cNvPr id="119" name="Group 8"/>
            <p:cNvGrpSpPr/>
            <p:nvPr/>
          </p:nvGrpSpPr>
          <p:grpSpPr>
            <a:xfrm>
              <a:off x="2571840" y="4357800"/>
              <a:ext cx="2273040" cy="536040"/>
              <a:chOff x="2571840" y="4357800"/>
              <a:chExt cx="2273040" cy="536040"/>
            </a:xfrm>
          </p:grpSpPr>
          <p:sp>
            <p:nvSpPr>
              <p:cNvPr id="120" name="AutoShape 9"/>
              <p:cNvSpPr/>
              <p:nvPr/>
            </p:nvSpPr>
            <p:spPr>
              <a:xfrm>
                <a:off x="2571840" y="4357800"/>
                <a:ext cx="2273040" cy="536040"/>
              </a:xfrm>
              <a:prstGeom prst="roundRect">
                <a:avLst>
                  <a:gd name="adj" fmla="val 16667"/>
                </a:avLst>
              </a:prstGeom>
              <a:solidFill>
                <a:schemeClr val="accent4">
                  <a:lumMod val="60000"/>
                  <a:lumOff val="40000"/>
                </a:schemeClr>
              </a:solidFill>
              <a:ln w="127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1" name="AutoShape 10"/>
              <p:cNvSpPr/>
              <p:nvPr/>
            </p:nvSpPr>
            <p:spPr>
              <a:xfrm>
                <a:off x="2607120" y="4390200"/>
                <a:ext cx="2193120" cy="217440"/>
              </a:xfrm>
              <a:prstGeom prst="roundRect">
                <a:avLst>
                  <a:gd name="adj" fmla="val 28356"/>
                </a:avLst>
              </a:prstGeom>
              <a:solidFill>
                <a:schemeClr val="accent4">
                  <a:lumMod val="60000"/>
                  <a:lumOff val="4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22" name="Text Box 31"/>
            <p:cNvSpPr/>
            <p:nvPr/>
          </p:nvSpPr>
          <p:spPr>
            <a:xfrm>
              <a:off x="2598840" y="4478400"/>
              <a:ext cx="2199960" cy="302760"/>
            </a:xfrm>
            <a:prstGeom prst="rect">
              <a:avLst/>
            </a:prstGeom>
            <a:solidFill>
              <a:schemeClr val="accent4">
                <a:lumMod val="60000"/>
                <a:lumOff val="40000"/>
              </a:schemeClr>
            </a:solidFill>
            <a:ln w="9525">
              <a:noFill/>
            </a:ln>
            <a:effectLst>
              <a:outerShdw algn="ctr" dir="2700000" dist="1781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Галлюциноге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55"/>
          <p:cNvGrpSpPr/>
          <p:nvPr/>
        </p:nvGrpSpPr>
        <p:grpSpPr>
          <a:xfrm>
            <a:off x="1285920" y="5143680"/>
            <a:ext cx="2273040" cy="536040"/>
            <a:chOff x="1285920" y="5143680"/>
            <a:chExt cx="2273040" cy="536040"/>
          </a:xfrm>
        </p:grpSpPr>
        <p:grpSp>
          <p:nvGrpSpPr>
            <p:cNvPr id="124" name="Group 8"/>
            <p:cNvGrpSpPr/>
            <p:nvPr/>
          </p:nvGrpSpPr>
          <p:grpSpPr>
            <a:xfrm>
              <a:off x="1285920" y="5143680"/>
              <a:ext cx="2273040" cy="536040"/>
              <a:chOff x="1285920" y="5143680"/>
              <a:chExt cx="2273040" cy="536040"/>
            </a:xfrm>
          </p:grpSpPr>
          <p:sp>
            <p:nvSpPr>
              <p:cNvPr id="125" name="AutoShape 9"/>
              <p:cNvSpPr/>
              <p:nvPr/>
            </p:nvSpPr>
            <p:spPr>
              <a:xfrm>
                <a:off x="1285920" y="5143680"/>
                <a:ext cx="2273040" cy="5360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127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1321200" y="5176080"/>
                <a:ext cx="2193120" cy="217440"/>
              </a:xfrm>
              <a:prstGeom prst="roundRect">
                <a:avLst>
                  <a:gd name="adj" fmla="val 28356"/>
                </a:avLst>
              </a:prstGeom>
              <a:solidFill>
                <a:srgbClr val="ffff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27" name="Text Box 31"/>
            <p:cNvSpPr/>
            <p:nvPr/>
          </p:nvSpPr>
          <p:spPr>
            <a:xfrm>
              <a:off x="1312920" y="5264280"/>
              <a:ext cx="2199960" cy="302760"/>
            </a:xfrm>
            <a:prstGeom prst="rect">
              <a:avLst/>
            </a:prstGeom>
            <a:solidFill>
              <a:srgbClr val="ffff00"/>
            </a:solidFill>
            <a:ln w="9525">
              <a:noFill/>
            </a:ln>
            <a:effectLst>
              <a:outerShdw algn="ctr" dir="2700000" dist="1781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Мариху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67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Больной или преступник? 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214200" y="1812240"/>
            <a:ext cx="4285800" cy="4471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Кто же он, нарком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— преступник, которого надо ловить, сажать в тюрьму, или больной, которого надо лечить? Что заставляет его рисковат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Нарком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это болезнь, ее надо лечить. Она страшна тем, что растет как снежный ком: когда перестают действовать более легкие наркотики, наркоман переходит на тяжелые, в конечном счете это приводит к гибели тысяч молодых людей. Сегодня нарко-маны ушли в подполье. К этому привели запретительные меры, к которым от бессилия прибегают наши правоохра-нительные органы. Силы общества должны быть направлены на то, чтобы из наркоманов сделать не врагов, а союзников врачей и милиции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643280" y="3500280"/>
            <a:ext cx="4285800" cy="32191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 rot="243600">
            <a:off x="4657680" y="1148400"/>
            <a:ext cx="4285800" cy="2571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6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Борьба с наркоманией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214200" y="1103760"/>
            <a:ext cx="4642920" cy="5444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Arial"/>
                <a:ea typeface="Times New Roman"/>
              </a:rPr>
              <a:t>26 июня — Всемирный день борьбы с наркоманией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этот день весь мир говорит о том, что современное общество заражено тяжелейшей психической болезнью, которую надо лечить. Карательные меры не решают проблемы, хотя у представителей российской государственной власти на этот счет иное мн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мания уже обрела статус социальной болезни. Она прогрессирует и поражает все слои населения. Никто достоверно не знает числа заболевших — официальные показатели можно назвать вершиной айсберга. Одни говорят, что эти цифры можно смело умножать на десять, другие — на пятьдесят. 97 процентов ВИЧ-инфицированных — наркоманы. Это болезнь молодежи, каждый десятый потребитель наркотиков — подросток до 18 лет. Специалисты утверждают, что не осталось ни одной школы, вуза, техникума, в которых не было бы подростков, больных наркомани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929120" y="1214280"/>
            <a:ext cx="4053600" cy="2142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857840" y="4000680"/>
            <a:ext cx="4142880" cy="24998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Изящная">
  <a:themeElements>
    <a:clrScheme name="Яркая">
      <a:dk1>
        <a:srgbClr val="000000"/>
      </a:dk1>
      <a:lt1>
        <a:srgbClr val="ffffff"/>
      </a:lt1>
      <a:dk2>
        <a:srgbClr val="666666"/>
      </a:dk2>
      <a:lt2>
        <a:srgbClr val="d2d2d2"/>
      </a:lt2>
      <a:accent1>
        <a:srgbClr val="ff388c"/>
      </a:accent1>
      <a:accent2>
        <a:srgbClr val="e40059"/>
      </a:accent2>
      <a:accent3>
        <a:srgbClr val="9c007f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зящная">
  <a:themeElements>
    <a:clrScheme name="Яркая">
      <a:dk1>
        <a:srgbClr val="000000"/>
      </a:dk1>
      <a:lt1>
        <a:srgbClr val="ffffff"/>
      </a:lt1>
      <a:dk2>
        <a:srgbClr val="666666"/>
      </a:dk2>
      <a:lt2>
        <a:srgbClr val="d2d2d2"/>
      </a:lt2>
      <a:accent1>
        <a:srgbClr val="ff388c"/>
      </a:accent1>
      <a:accent2>
        <a:srgbClr val="e40059"/>
      </a:accent2>
      <a:accent3>
        <a:srgbClr val="9c007f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83</TotalTime>
  <Application>LibreOffice/7.4.7.2$Linux_X86_64 LibreOffice_project/40$Build-2</Application>
  <AppVersion>15.0000</AppVersion>
  <Words>546</Words>
  <Paragraphs>21</Paragraphs>
  <Company>matrix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1:36:43Z</dcterms:created>
  <dc:creator>Администратор</dc:creator>
  <dc:description/>
  <dc:language>en-US</dc:language>
  <cp:lastModifiedBy>Admin</cp:lastModifiedBy>
  <dcterms:modified xsi:type="dcterms:W3CDTF">2013-03-21T07:56:47Z</dcterms:modified>
  <cp:revision>10</cp:revision>
  <dc:subject/>
  <dc:title>НАРКОМ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