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D9A-800E-4A40-8EAC-E7A5EA4A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7EA-1787-4BBB-9C5E-9E7053B3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6B6-45A7-4718-A5C7-A349B0D6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0B4-CB34-4B58-9173-C0188885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EF1A-074C-45AB-A8A1-E77B2B65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FF75-F91A-47FB-ADF6-BFA305FA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CAD8-4F73-4230-9313-D1D000BF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0353-610F-4297-B6FA-45F097E1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9190-0453-4323-8A1E-6DB50A4C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BACE-B999-4617-B9D6-ED35AC9F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7202-591E-45FF-A7A2-E303892F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EF1-E7E3-4CAA-A798-728E79A8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3179-EB7F-4056-8755-70CBCEB3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2541-B082-417F-893F-F1CB1A96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6630-7C12-458F-9815-6E3C9945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75E6-1884-436C-B1A5-EC1ADA72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EAD9-2478-4CF0-881C-A9457208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497-5D63-4502-93FB-49233312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389-8C89-4C4C-A073-4A45D9C7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A0AF-9493-4B2C-ABC0-C7344E60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671-C15C-439C-80FD-7DDDB09F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2E3-55CC-4D8F-A199-4DF7ECE4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DD31-256C-4551-8928-F050A1F3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E3D-D0B8-4162-812F-C0D2D2DE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DE1B5D-6986-4A0E-A0B4-C28EFB8C2B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AEE9E4-7848-4ADB-B68B-4EB5F47F2C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1600200" y="609480"/>
            <a:ext cx="7314840" cy="46479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ascadeUp">
              <a:avLst>
                <a:gd name="adj" fmla="val 44444"/>
              </a:avLst>
            </a:prstTxWarp>
            <a:noAutofit/>
            <a:scene3d>
              <a:camera prst="legacyPerspectiveTopLeft">
                <a:rot lat="0" lon="20519999" rev="0"/>
              </a:camera>
              <a:lightRig dir="r" rig="legacyHarsh3"/>
            </a:scene3d>
            <a:sp3d extrusionH="430200" prstMaterial="legacyMatte">
              <a:extrusionClr>
                <a:srgbClr val="006600"/>
              </a:extrusionClr>
              <a:contourClr>
                <a:srgbClr val="006600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наркомания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539640" y="907920"/>
            <a:ext cx="79927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котические вещества, попадая во внутреннюю среду организма, оказывают сильнейшее воздействие, прежде всего на головной мозг. С течением времени у человека появляются зависимости от наркот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психической зависимости от наркотика определяется воздействием на зоны поощрения, при которых возникают положительные эмоциональные состояния. Таким образом, употребление наркотика становится наиглавнейшим стимулом в получении положительных эмоций, а при отсутствии наркотика человек чувствует психологический дискомф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ханизмы формирования физической зависимости от наркотиков до конца еще не ясны. Есть предположения, что они включаются в обменные процессы как необходимый и самостоятельный элемент на уровне регуляции функций жизнедеятельности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роцессе развития болезни происходит постепенное привыкание к наркотику. Он уже не вызывает того состояния, которое было в начале. Появляется состояние «ломки» или абсистентный синдром. Физиологическое явление привыкания к дозе наркотика называется – толерант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050920" y="333360"/>
            <a:ext cx="4825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Свойства нарком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836640"/>
            <a:ext cx="8892720" cy="58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31640" tIns="45000" bIns="43164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ркотики в зависимости от воздействия на организм человека условно можно разделить на 2 группы: возбуждающие и вызывающие депрессию. При этом следует иметь в виду, ч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ый из наркотиков обладает большим разнообразием скрытых свойств, по-разно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ющих на нервную систе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так, все наркотики и их действия делятся на следующие группы (разработано специалистами Всемирного общества здравоохранения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  седативные яды, успокаивающие психическую деятельность. Они сокращают вплоть до полного устранения функции возбудимости и восприятия, вводя человека в заблуждение, одаривая его букетом приятных состояний. Эти вещества (опиум и его алкалоиды, морфий, кодеин, кока и кокаин) изменяют мозговые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   галлюциногенные средства, представленные большим числом веще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тительного происхождения, очень разные по своему химическому     составу (мескалин из кактуса, индийская конопля, гашиш и прочие    тропеиновые растения). Все они вызывают церебральные возбуждения, выражающиеся в деформации ощущений, галлюцинациях, искажении восприятий, виден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  вещества, легко получаемые путем химического синтеза, вызывающие сперва церебральные возбуждения, а затем глубокую депрессию (алкоголь, эфир, хлороформ, бензин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  яды сна –барбитураты, хлорал, сульфорол, кава-кава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астительные вещества, возбуждающие мозговую деятельность без немедленного влияния на психику; сила воздействия на разных лиц бывает разной (кофеин, табак, бетель и др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79280" y="1773360"/>
            <a:ext cx="914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68360" y="260280"/>
            <a:ext cx="4535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Классификация наркот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50920" y="0"/>
            <a:ext cx="8713440" cy="66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рко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пиаты (героин, морфий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зывают сонливость, замедленное дыхание, сужение зрач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одят к поражении печени, сердечно-сосудистой и дыхательной систем, к поражению моз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окаин ( кокаин, «крек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зывает возбужденное состояние, навязчивую словоохотливость, взволнованность, галлюцинации, расширенные зра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одят к аритмии, психозам, поражению слизистой дыхательных пу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Гашиш (гашиш, марихуан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зывает колебание настроения, замедленную реакцию, усиленный аппетит, сухость рта, расширенные зра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одит к ухудшению памяти, повышению риска заболеваний онкологическими заболеваниями, поражению печени, повреждению головного моз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Галлюциногены (ЛСД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зывает трансоподобное состояние, возбуждение, бессонницу, галлюцин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одит к нарушению координации, тяжелым поражениям мозга, депре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Антидепрессанты (снотворно – седативные средст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зывает сонливость, заторможенность, слабое дыхание, расширенные зра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одит к поражению головного мозга, сердечно – сосудистой системы, психоз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тимулянты (Амфетамин, «экстази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зывает возбудимость, повышенное потоотделение, сухость во рту, галлюцинации, расширенные зра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одит к расстройству нервной системы, дыхательной системы, депрессиям, параной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79280" y="153000"/>
            <a:ext cx="8964360" cy="25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228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Формирование жизненных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228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ие отказываться от рискованных предложений, выражать правильно свои чувства, видеть положительные и отрицательные стороны   явл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228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 критическое мыш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азвивать уверенность в себ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228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влять своими чувств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укрепление связи с семь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осознание негативных влияний, давлений и манипуляций со стороны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сканирование0005"/>
          <p:cNvPicPr/>
          <p:nvPr/>
        </p:nvPicPr>
        <p:blipFill>
          <a:blip r:embed="rId1"/>
          <a:stretch/>
        </p:blipFill>
        <p:spPr>
          <a:xfrm>
            <a:off x="5076720" y="2847960"/>
            <a:ext cx="4066920" cy="4009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сканирование"/>
          <p:cNvPicPr/>
          <p:nvPr/>
        </p:nvPicPr>
        <p:blipFill>
          <a:blip r:embed="rId2"/>
          <a:stretch/>
        </p:blipFill>
        <p:spPr>
          <a:xfrm>
            <a:off x="179280" y="2781360"/>
            <a:ext cx="3519000" cy="40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411120" y="718200"/>
            <a:ext cx="8994600" cy="46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31640" tIns="45000" bIns="53964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Уголовная ответств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. 228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законные изготовление, приобретение, хран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зка, пересылка либо сбыт наркотических сред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психотроп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. 229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Хищение либо вымогательство наркотических средст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бо психотропны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. 230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клонение к потреблению наркотических сред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психотроп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. 23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Незаконное культивирование запрещ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возделыванию растений, содержащих наркотически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. 5 ст. 7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 лечении от нарком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10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395280" y="115920"/>
            <a:ext cx="837216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езни, возникающие в результате злоупотребления веществами, вызывающими кратковременное чувство благоприятного психического состояния,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табакокур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нарком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токсиком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пищевое отр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Из перечисленных ниже признаков, определите 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орые указывают на наркотическое отрав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тошнота и рво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головокруж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кровотечение из но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сужение зрач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) покраснение ко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) повышение мышечного тон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Употребление одурманивающих средств приводит к хроническому отр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оражается нервная систе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разрушается головной моз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несколько утрачивается работоспособ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нарастает полнейшая деградация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) улучшается настро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3348000" y="119700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38"/>
          <p:cNvSpPr/>
          <p:nvPr/>
        </p:nvSpPr>
        <p:spPr>
          <a:xfrm>
            <a:off x="3348000" y="148608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39"/>
          <p:cNvSpPr/>
          <p:nvPr/>
        </p:nvSpPr>
        <p:spPr>
          <a:xfrm>
            <a:off x="3348000" y="177336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40"/>
          <p:cNvSpPr/>
          <p:nvPr/>
        </p:nvSpPr>
        <p:spPr>
          <a:xfrm>
            <a:off x="3348000" y="206208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41"/>
          <p:cNvSpPr/>
          <p:nvPr/>
        </p:nvSpPr>
        <p:spPr>
          <a:xfrm>
            <a:off x="4140360" y="285264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42"/>
          <p:cNvSpPr/>
          <p:nvPr/>
        </p:nvSpPr>
        <p:spPr>
          <a:xfrm>
            <a:off x="4140360" y="342900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43"/>
          <p:cNvSpPr/>
          <p:nvPr/>
        </p:nvSpPr>
        <p:spPr>
          <a:xfrm>
            <a:off x="4140360" y="314172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44"/>
          <p:cNvSpPr/>
          <p:nvPr/>
        </p:nvSpPr>
        <p:spPr>
          <a:xfrm>
            <a:off x="4140360" y="400536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45"/>
          <p:cNvSpPr/>
          <p:nvPr/>
        </p:nvSpPr>
        <p:spPr>
          <a:xfrm>
            <a:off x="4140360" y="371808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46"/>
          <p:cNvSpPr/>
          <p:nvPr/>
        </p:nvSpPr>
        <p:spPr>
          <a:xfrm>
            <a:off x="4140360" y="429408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7"/>
          <p:cNvSpPr/>
          <p:nvPr/>
        </p:nvSpPr>
        <p:spPr>
          <a:xfrm>
            <a:off x="5148360" y="566100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48"/>
          <p:cNvSpPr/>
          <p:nvPr/>
        </p:nvSpPr>
        <p:spPr>
          <a:xfrm>
            <a:off x="5148360" y="537372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9"/>
          <p:cNvSpPr/>
          <p:nvPr/>
        </p:nvSpPr>
        <p:spPr>
          <a:xfrm>
            <a:off x="5148360" y="508464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50"/>
          <p:cNvSpPr/>
          <p:nvPr/>
        </p:nvSpPr>
        <p:spPr>
          <a:xfrm>
            <a:off x="5148360" y="623736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51"/>
          <p:cNvSpPr/>
          <p:nvPr/>
        </p:nvSpPr>
        <p:spPr>
          <a:xfrm>
            <a:off x="5148360" y="595008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763640" y="692280"/>
            <a:ext cx="5544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chemeClr val="accent2"/>
                </a:solidFill>
                <a:latin typeface="Times New Roman"/>
              </a:rPr>
              <a:t>Домашне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chemeClr val="accent2"/>
                </a:solidFill>
                <a:latin typeface="Times New Roman"/>
              </a:rPr>
              <a:t>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006666"/>
                </a:solidFill>
                <a:latin typeface="Times New Roman"/>
              </a:rPr>
              <a:t>Антиреклам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Times New Roman"/>
              </a:rPr>
              <a:t>н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Times New Roman"/>
              </a:rPr>
              <a:t>П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239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2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040" cy="887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 u="sng">
                <a:solidFill>
                  <a:srgbClr val="006666"/>
                </a:solidFill>
                <a:uFillTx/>
                <a:latin typeface="Times New Roman"/>
              </a:rPr>
              <a:t>План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360" y="1341360"/>
            <a:ext cx="6400440" cy="5111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1. 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2. Влияние наркотиков на организм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3. Свойства нарком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4. Классификация наркот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5. Формирование жизненных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6. Уголовная ответ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7. Те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364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Историческая справ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накомство человека с наркотиками  состоялось тысячелетия назад. Люди каменного века знали гашиш, опиум, кокаин и использовали их для поднятия боевого духа перед боевыми действиями или на религиозных обряд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умерская цивилизация оставила на глиняных табличках (3500 г. до н.э.) самые ранние советы по приготовлению и употреблению опиума. Использование галлюциногенных грибов на религиозных ритуалах засвидетельствовано ранними источниками в Мексике, Скандинавии, Сибири. На стенах погребальных пещер индейцев Центральной Америки встречаются изображения людей, жующих листья коки (300 г. до н. э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коло 2700 года до н. э. В Китае уже использовали коноплю в виде настоя или чая. Император Шен Нунг предписывал своим подданным принимать этот чай в качестве лекарства от подагры и рассеянности, а от кашля и поноса предлагал использовать гаши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гипетский папирус (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. до н. э.) рекомендовал в качестве лечебного средства мак. В Греции 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. до н. э. применялись настойки, в состав которых включались вино, мед и опиум. Аристотель, Геродот и Гален в своих трудах описывали действие наркотиков. Уже в древнеримские медики выяснили, что опиум может быть смертельным я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ачал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. н. э. на Аравийском полуострове возник ислам, священная книга которого Коран запрещала употребление алкоголя, в связи с чем появились попытки заменить алкоголь опиумом. В конц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III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естоносцы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езли с Ближнего Востока в Европу опиум как средство одурманивания. Но благодаря средневековой инквизиции использование опиума притормозилось на несколько веков. Только в 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. в медицинскую практику был введен опий (Парацельс – известный медиу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805 году удалось выделить морфин, а в 1956 году появились шприцы и наркомания стала развиваться через уколы. В 1860 году немецкий химик Альберт Ниман получил активный алкалоид и назвал его кокаин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14 году немецкой фармацевтической компанией были разработаны экстази и МДА. Амфетамин был получен  в 1887 году, но лишь с 1935 года его начали использовать в медицинских целях. Синтетический вариант ЛСД был изготовлен в 1938 году в Женеве химиком Альбертом Хоффманом в терапевтических цел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оссии издавна выращивались конопля и мак для производства многих вещей в хозяйстве. Распространение наркотиков началось в 60 – е годы, когда был снят «железный занавес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24000" y="620640"/>
            <a:ext cx="864216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2005 году в Подмосковье на 45 % возросло количество тяжких преступлений, связанных с незаконным оборотом наркот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04 году от передозировки умерло 392 человека, что составляет 288 % от 2003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возраст приобщения к наркотикам снизился до 14,2 лет у мальчиков, 14,6 – у девоч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лн. людей употребляют наркотики в нашей стране, 76 % молодежь от 14 до 30 л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10 лет число смертей от наркотиков увеличилось в 12 раз, среди детей в 42 раза (65 % - передозиров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окончанию школы 40 % детей пробовали наркотики, «сидят на игле» - 9% мальчиков, 5 % - девоч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1 % ВИЧ – инфицированных – наркома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наркоман за год втягивает в «порочный круг» до 4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7"/>
          <p:cNvSpPr/>
          <p:nvPr/>
        </p:nvSpPr>
        <p:spPr>
          <a:xfrm>
            <a:off x="826920" y="620640"/>
            <a:ext cx="720072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ные не могут еще точно установить, как наркотики с такой быстротой включаются в обмен веществ человека и становятся необходимой составной частью него. Но уже доказано, что наркотики воздействуют на центр в головном мозге, который отвечает за «поощрение». При этом происходит выброс дофамина в кровь и человек чувствует возбу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наркотики отрицательно воздействуют на организм человека. Прежде всего, они снимают боль и снижают болевой порог чувстви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равносильно снятию «службы охран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07020802"/>
          <p:cNvPicPr/>
          <p:nvPr/>
        </p:nvPicPr>
        <p:blipFill>
          <a:blip r:embed="rId1"/>
          <a:stretch/>
        </p:blipFill>
        <p:spPr>
          <a:xfrm>
            <a:off x="108000" y="4113360"/>
            <a:ext cx="3898440" cy="2744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2"/>
          <p:cNvSpPr/>
          <p:nvPr/>
        </p:nvSpPr>
        <p:spPr>
          <a:xfrm>
            <a:off x="1403280" y="115920"/>
            <a:ext cx="633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Влияние наркотиков на организм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11280" y="476280"/>
            <a:ext cx="831672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котики воздействуют на дыхательный центр и хеморецепторы, которые отвечают за количество кислорода в крови, не реагируют на углекислый газ и происходит кислородное голодание организма. Наркоманы часто умирают от паралича дыхательного центра в результате передозир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котики также влияют на 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левой центр. Кашель – это защитная реакция нашего организма, но у наркоманов отключается защитный механизм каш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7020501"/>
          <p:cNvPicPr/>
          <p:nvPr/>
        </p:nvPicPr>
        <p:blipFill>
          <a:blip r:embed="rId1"/>
          <a:stretch/>
        </p:blipFill>
        <p:spPr>
          <a:xfrm>
            <a:off x="3348000" y="3367080"/>
            <a:ext cx="3490560" cy="34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826920" y="333360"/>
            <a:ext cx="720072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котики способствуют угнетению сосудодвигательного центра, а  следствие этого снижению кровяного давления и замедлению пуль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этой причине ухудшаются функции сердечно-сосудистой системы, функции всех клеток слабеют, и весь организм дряхлеет, как в ста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07020401_1"/>
          <p:cNvPicPr/>
          <p:nvPr/>
        </p:nvPicPr>
        <p:blipFill>
          <a:blip r:embed="rId1"/>
          <a:stretch/>
        </p:blipFill>
        <p:spPr>
          <a:xfrm>
            <a:off x="2843280" y="2914560"/>
            <a:ext cx="394308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042920" y="765000"/>
            <a:ext cx="66956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котики угнетают механизмы регуляции пищеварения, у наркоманов притупляются все вкусовые и обонятельные ощущения, снижается аппетит, уменьшается выработка ферментов, желчи, желудочного и кишечного с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07020602"/>
          <p:cNvPicPr/>
          <p:nvPr/>
        </p:nvPicPr>
        <p:blipFill>
          <a:blip r:embed="rId1"/>
          <a:stretch/>
        </p:blipFill>
        <p:spPr>
          <a:xfrm>
            <a:off x="5076720" y="2492280"/>
            <a:ext cx="3303360" cy="3715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324000" y="2492280"/>
            <a:ext cx="3744720" cy="41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ща не в полной мере переваривается и усваив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команы обрекают себя на хроническое голодание  и имеют дефицит веса. Но также происходит и спазм гладкомышечной мускулатуры кишечника, что приводит  в длительным запорам (5 – 10 дней).И все это время в организме происходят процессы гниения и раз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900000" y="549360"/>
            <a:ext cx="734328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наркомании угнетаются половые потребности и возмож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девушек развиваются атрофические процессы, и они не могут даже заниматься проституцией из-за потери необходимых для этого кач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юношей происходит быстрое угасание поте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аркоманов обычно не бывает детей, а среди родившихся часты случаи урод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7021004"/>
          <p:cNvPicPr/>
          <p:nvPr/>
        </p:nvPicPr>
        <p:blipFill>
          <a:blip r:embed="rId1"/>
          <a:stretch/>
        </p:blipFill>
        <p:spPr>
          <a:xfrm>
            <a:off x="2484360" y="3716280"/>
            <a:ext cx="4247640" cy="18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  <Words>1130</Words>
  <Paragraphs>122</Paragraphs>
  <Company>школа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2:02:01Z</dcterms:created>
  <dc:creator>COMP-2</dc:creator>
  <dc:description/>
  <dc:language>en-US</dc:language>
  <cp:lastModifiedBy>Admin</cp:lastModifiedBy>
  <dcterms:modified xsi:type="dcterms:W3CDTF">2013-03-21T08:00:22Z</dcterms:modified>
  <cp:revision>3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